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1AE7-8B68-4FC6-A601-7DA3ACC2992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2855880" y="8710560"/>
            <a:ext cx="11448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0CD1776-4425-4A9A-84FF-A3A5FE1C7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Img"/>
          </p:nvPr>
        </p:nvSpPr>
        <p:spPr>
          <a:xfrm>
            <a:off x="1150920" y="694800"/>
            <a:ext cx="4556160" cy="341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ACF1-FBF9-4198-AA1D-DB88547877D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B961-1DCB-4567-A02C-8C30BA29B52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8ECA-D9E4-420E-8951-E67549C9526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22DF-BA60-4681-BA6C-44DBA52D6E5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F016-CBB7-4A7C-A9A5-78E5828B03D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DA9D-6C48-415A-8766-79A316AF322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F71E-CA96-4312-8766-A17FE7912CC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703F-D12C-41D1-B909-C852678EBCB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02CB-1BB6-4E65-B915-C92737DF3A1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927B-DA9E-46C8-866D-522EE9ED2A4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332D-8FB7-4332-9E6C-7C58620B626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70D4-EDCA-4063-A28F-7F2EFD4F4C9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782A-4D86-4A69-B823-BDED9EBBCF8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036D-B4E7-464D-9197-33E9F6AA417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5D72-C7AE-488E-BF71-E73E92404D9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1134-DD63-4C54-B223-1D2675CADDC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ADB8-DEB9-4EAA-AA23-3B78AB32384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24FD-8641-4BA0-BC83-D3E8DA26DBA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49F0-2B66-4716-A0F2-E6E2FF2A55B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A25D-A336-4140-965B-5A80533EB44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43F1-1A00-4AB7-8512-6611B3740F4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1CFF-C3D6-4D8C-9E97-5F79DFD4633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A70D-64CB-4451-B50B-39BE5E52544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B7F5-5288-4AC1-93F7-56A984211DC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E6FF-0064-4ADF-83EF-C34C04F2A97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D655-09EF-4DDC-8017-641BB8BB78B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239B-1563-4803-95B5-ED2ED028452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0ED8-3962-465F-99A1-07F14D63C4D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0CB2-5A59-4D3B-A08F-20435DC7052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AD53-8F34-4D1C-B04D-365B9E12500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6D01-7B21-4721-BC03-2DCA7F1FEDD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C9A3-D6CF-4782-9F33-BD04DE37FE5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D971-4DBF-443A-94E7-36B75AD79B5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BACA-3AB6-4565-B915-6E57B2ADD38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DAD5-7508-448A-9D3F-D8E11C50EC5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3C3C-C5D7-4343-B9AF-DFB9B771B63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955D-5221-4630-9E09-F06B4D6D27E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9F0B2-3C9F-476D-ADC8-DD29F99B158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9E49-E49E-4F9E-AA99-DE41B670BC1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63414-E872-4ADC-9C0C-C19E65108E8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4D51-9743-4B7A-9FE0-27FAFD7107C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4400-3AFB-4940-9BB5-B5FCE05C3C7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4EE9-DDBA-401D-AEB7-8CF34B1B595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3DD0-9AF9-43C4-96B8-84D700A833A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4497-E256-4804-B925-000096BD0EE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CB8F-B5CC-4ED2-87E1-1EF8F6DEF27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AF05-EB7A-4EF8-9A99-6E345160712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34F1-B53A-46DF-9B56-BDF6E33DD37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A3A9-4A36-4570-9888-879BFCC9606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776D2-19F2-452E-ACE7-951DABADBD5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7D71-FF64-469C-90BC-938176D4DE5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C272-BB15-445E-AD9D-596BEC5089E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0A5D-EFE1-466A-B3EF-30E49FA16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33D9-3C39-4635-B995-3AA63A61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FBCF-0775-4862-B870-3812DBB2E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1367-3A2E-436B-A279-7013E855D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8CE1-4A68-4500-BC73-32D568EA4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671E-14D1-465B-940E-BA14DB90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6C8E-1743-4A0D-A7B6-3CAAB517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1B76-11AB-4E7A-A401-CC8D9B4D9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CA98-FF14-4E86-BBB1-375C03B3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E997-7694-4E0F-BB84-1D098A09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5313-5735-4B4F-A38E-DD57F6EE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4699-1260-41A3-976B-FE10E412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005B-EF2A-426C-897C-E5AA5C19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F8A6-3FDF-4DEE-A667-14939E2D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9C33-C090-4C5D-BA68-D2F04D22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D553-1B63-43B7-B999-84DDE822B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958E-5C62-4327-9878-438FF8C13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FB32-31EE-4160-B3A6-38427AF0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A20A-AB39-46A6-99B4-B754E20D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0DF2-C024-4FA6-B426-72FB13B3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A00B-FF4B-4453-86DE-EA6F99F4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086E-41C2-488B-98E0-B6B9BC1E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A7EA-DEE9-449D-9F97-74F7424B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B4F1-ED3E-4299-A517-C4F4EF01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7"/>
                    <a:pt x="103" y="-22337"/>
                    <a:pt x="0" y="-22339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7"/>
                    <a:pt x="103" y="-22337"/>
                    <a:pt x="0" y="-22339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7"/>
                    <a:pt x="107" y="-22337"/>
                    <a:pt x="0" y="-22339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7"/>
                    <a:pt x="107" y="-22337"/>
                    <a:pt x="0" y="-22339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7"/>
                    <a:pt x="108" y="-22337"/>
                    <a:pt x="0" y="-22339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7"/>
                    <a:pt x="108" y="-22337"/>
                    <a:pt x="0" y="-22339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0115-D224-4621-8219-CD0BCFDDB85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7"/>
                    <a:pt x="103" y="-22337"/>
                    <a:pt x="0" y="-22339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7"/>
                    <a:pt x="103" y="-22337"/>
                    <a:pt x="0" y="-22339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7"/>
                    <a:pt x="107" y="-22337"/>
                    <a:pt x="0" y="-22339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7"/>
                    <a:pt x="107" y="-22337"/>
                    <a:pt x="0" y="-22339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7"/>
                    <a:pt x="108" y="-22337"/>
                    <a:pt x="0" y="-22339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7"/>
                    <a:pt x="108" y="-22337"/>
                    <a:pt x="0" y="-22339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ECBD-EAB8-4E6A-8253-921A6B70763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4691160" cy="57913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38480" y="228600"/>
            <a:ext cx="472464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h. 9:  </a:t>
            </a: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Capital Budgeting</a:t>
            </a:r>
            <a:r>
              <a:rPr b="1" i="1" lang="en-US" sz="1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  </a:t>
            </a:r>
            <a:br>
              <a:rPr sz="4400"/>
            </a:b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Decision</a:t>
            </a:r>
            <a:br>
              <a:rPr sz="4400"/>
            </a:b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Criter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9320" y="380880"/>
            <a:ext cx="720720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rawbacks of Payback Period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81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Does not consider all of the project’s cash flow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onsider this cash flow stream!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8" name="Group 29"/>
          <p:cNvGrpSpPr/>
          <p:nvPr/>
        </p:nvGrpSpPr>
        <p:grpSpPr>
          <a:xfrm>
            <a:off x="473760" y="3124080"/>
            <a:ext cx="8691840" cy="1693800"/>
            <a:chOff x="473760" y="3124080"/>
            <a:chExt cx="8691840" cy="1693800"/>
          </a:xfrm>
        </p:grpSpPr>
        <p:grpSp>
          <p:nvGrpSpPr>
            <p:cNvPr id="169" name="Group 28"/>
            <p:cNvGrpSpPr/>
            <p:nvPr/>
          </p:nvGrpSpPr>
          <p:grpSpPr>
            <a:xfrm>
              <a:off x="821880" y="3732120"/>
              <a:ext cx="8224200" cy="1085760"/>
              <a:chOff x="821880" y="3732120"/>
              <a:chExt cx="8224200" cy="1085760"/>
            </a:xfrm>
          </p:grpSpPr>
          <p:grpSp>
            <p:nvGrpSpPr>
              <p:cNvPr id="170" name="Group 14"/>
              <p:cNvGrpSpPr/>
              <p:nvPr/>
            </p:nvGrpSpPr>
            <p:grpSpPr>
              <a:xfrm>
                <a:off x="1009800" y="3732120"/>
                <a:ext cx="7810200" cy="495000"/>
                <a:chOff x="1009800" y="3732120"/>
                <a:chExt cx="7810200" cy="495000"/>
              </a:xfrm>
            </p:grpSpPr>
            <p:sp>
              <p:nvSpPr>
                <p:cNvPr id="171" name="Line 4"/>
                <p:cNvSpPr/>
                <p:nvPr/>
              </p:nvSpPr>
              <p:spPr>
                <a:xfrm>
                  <a:off x="1009800" y="3979800"/>
                  <a:ext cx="7791120" cy="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72" name="Line 5"/>
                <p:cNvSpPr/>
                <p:nvPr/>
              </p:nvSpPr>
              <p:spPr>
                <a:xfrm>
                  <a:off x="8820000" y="3763800"/>
                  <a:ext cx="0" cy="39996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73" name="Line 6"/>
                <p:cNvSpPr/>
                <p:nvPr/>
              </p:nvSpPr>
              <p:spPr>
                <a:xfrm>
                  <a:off x="2190600" y="3751200"/>
                  <a:ext cx="0" cy="41904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74" name="Line 7"/>
                <p:cNvSpPr/>
                <p:nvPr/>
              </p:nvSpPr>
              <p:spPr>
                <a:xfrm>
                  <a:off x="1009800" y="3789000"/>
                  <a:ext cx="0" cy="41940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75" name="Line 8"/>
                <p:cNvSpPr/>
                <p:nvPr/>
              </p:nvSpPr>
              <p:spPr>
                <a:xfrm>
                  <a:off x="3105000" y="3751200"/>
                  <a:ext cx="0" cy="41904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76" name="Line 9"/>
                <p:cNvSpPr/>
                <p:nvPr/>
              </p:nvSpPr>
              <p:spPr>
                <a:xfrm>
                  <a:off x="4019400" y="3732120"/>
                  <a:ext cx="0" cy="41904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77" name="Line 10"/>
                <p:cNvSpPr/>
                <p:nvPr/>
              </p:nvSpPr>
              <p:spPr>
                <a:xfrm>
                  <a:off x="4933800" y="3751200"/>
                  <a:ext cx="0" cy="41904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78" name="Line 11"/>
                <p:cNvSpPr/>
                <p:nvPr/>
              </p:nvSpPr>
              <p:spPr>
                <a:xfrm>
                  <a:off x="6762600" y="3751200"/>
                  <a:ext cx="0" cy="47592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79" name="Line 12"/>
                <p:cNvSpPr/>
                <p:nvPr/>
              </p:nvSpPr>
              <p:spPr>
                <a:xfrm>
                  <a:off x="7677000" y="3751200"/>
                  <a:ext cx="0" cy="41904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80" name="Line 13"/>
                <p:cNvSpPr/>
                <p:nvPr/>
              </p:nvSpPr>
              <p:spPr>
                <a:xfrm>
                  <a:off x="5848200" y="3751200"/>
                  <a:ext cx="0" cy="41904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sp>
            <p:nvSpPr>
              <p:cNvPr id="181" name="Rectangle 15"/>
              <p:cNvSpPr/>
              <p:nvPr/>
            </p:nvSpPr>
            <p:spPr>
              <a:xfrm>
                <a:off x="821880" y="4176720"/>
                <a:ext cx="4136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0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82" name="Rectangle 16"/>
              <p:cNvSpPr/>
              <p:nvPr/>
            </p:nvSpPr>
            <p:spPr>
              <a:xfrm>
                <a:off x="1983960" y="4176720"/>
                <a:ext cx="4136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1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83" name="Rectangle 17"/>
              <p:cNvSpPr/>
              <p:nvPr/>
            </p:nvSpPr>
            <p:spPr>
              <a:xfrm>
                <a:off x="2917440" y="4176720"/>
                <a:ext cx="4136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2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84" name="Rectangle 18"/>
              <p:cNvSpPr/>
              <p:nvPr/>
            </p:nvSpPr>
            <p:spPr>
              <a:xfrm>
                <a:off x="3812760" y="4176720"/>
                <a:ext cx="4136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3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85" name="Rectangle 19"/>
              <p:cNvSpPr/>
              <p:nvPr/>
            </p:nvSpPr>
            <p:spPr>
              <a:xfrm>
                <a:off x="4746240" y="4176720"/>
                <a:ext cx="4136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4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86" name="Rectangle 20"/>
              <p:cNvSpPr/>
              <p:nvPr/>
            </p:nvSpPr>
            <p:spPr>
              <a:xfrm>
                <a:off x="5660640" y="4176720"/>
                <a:ext cx="4136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5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87" name="Rectangle 21"/>
              <p:cNvSpPr/>
              <p:nvPr/>
            </p:nvSpPr>
            <p:spPr>
              <a:xfrm>
                <a:off x="8632440" y="4157640"/>
                <a:ext cx="4136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8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88" name="Rectangle 22"/>
              <p:cNvSpPr/>
              <p:nvPr/>
            </p:nvSpPr>
            <p:spPr>
              <a:xfrm>
                <a:off x="6536880" y="4176720"/>
                <a:ext cx="4136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6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89" name="Rectangle 23"/>
              <p:cNvSpPr/>
              <p:nvPr/>
            </p:nvSpPr>
            <p:spPr>
              <a:xfrm>
                <a:off x="7470360" y="4160880"/>
                <a:ext cx="4136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7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sp>
          <p:nvSpPr>
            <p:cNvPr id="190" name="Rectangle 25"/>
            <p:cNvSpPr/>
            <p:nvPr/>
          </p:nvSpPr>
          <p:spPr>
            <a:xfrm>
              <a:off x="473760" y="3124080"/>
              <a:ext cx="8691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(500)    150   150   150   150   150  (300)    0         0 </a:t>
              </a:r>
              <a:endParaRPr b="1" lang="en-US" sz="32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9320" y="380880"/>
            <a:ext cx="720720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rawbacks of Payback Period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Does not consider all of the project’s cash flow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This project is clearly unprofitable, but we would </a:t>
            </a:r>
            <a:r>
              <a:rPr b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accept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it based on a 4-year payback criterion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3" name="Group 27"/>
          <p:cNvGrpSpPr/>
          <p:nvPr/>
        </p:nvGrpSpPr>
        <p:grpSpPr>
          <a:xfrm>
            <a:off x="473760" y="3124080"/>
            <a:ext cx="8691840" cy="1693800"/>
            <a:chOff x="473760" y="3124080"/>
            <a:chExt cx="8691840" cy="1693800"/>
          </a:xfrm>
        </p:grpSpPr>
        <p:grpSp>
          <p:nvGrpSpPr>
            <p:cNvPr id="194" name="Group 28"/>
            <p:cNvGrpSpPr/>
            <p:nvPr/>
          </p:nvGrpSpPr>
          <p:grpSpPr>
            <a:xfrm>
              <a:off x="821880" y="3732120"/>
              <a:ext cx="8224200" cy="1085760"/>
              <a:chOff x="821880" y="3732120"/>
              <a:chExt cx="8224200" cy="1085760"/>
            </a:xfrm>
          </p:grpSpPr>
          <p:grpSp>
            <p:nvGrpSpPr>
              <p:cNvPr id="195" name="Group 29"/>
              <p:cNvGrpSpPr/>
              <p:nvPr/>
            </p:nvGrpSpPr>
            <p:grpSpPr>
              <a:xfrm>
                <a:off x="1009800" y="3732120"/>
                <a:ext cx="7810200" cy="495000"/>
                <a:chOff x="1009800" y="3732120"/>
                <a:chExt cx="7810200" cy="495000"/>
              </a:xfrm>
            </p:grpSpPr>
            <p:sp>
              <p:nvSpPr>
                <p:cNvPr id="196" name="Line 30"/>
                <p:cNvSpPr/>
                <p:nvPr/>
              </p:nvSpPr>
              <p:spPr>
                <a:xfrm>
                  <a:off x="1009800" y="3979800"/>
                  <a:ext cx="7791120" cy="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97" name="Line 31"/>
                <p:cNvSpPr/>
                <p:nvPr/>
              </p:nvSpPr>
              <p:spPr>
                <a:xfrm>
                  <a:off x="8820000" y="3763800"/>
                  <a:ext cx="0" cy="39996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98" name="Line 32"/>
                <p:cNvSpPr/>
                <p:nvPr/>
              </p:nvSpPr>
              <p:spPr>
                <a:xfrm>
                  <a:off x="2190600" y="3751200"/>
                  <a:ext cx="0" cy="41904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99" name="Line 33"/>
                <p:cNvSpPr/>
                <p:nvPr/>
              </p:nvSpPr>
              <p:spPr>
                <a:xfrm>
                  <a:off x="1009800" y="3789000"/>
                  <a:ext cx="0" cy="41940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00" name="Line 34"/>
                <p:cNvSpPr/>
                <p:nvPr/>
              </p:nvSpPr>
              <p:spPr>
                <a:xfrm>
                  <a:off x="3105000" y="3751200"/>
                  <a:ext cx="0" cy="41904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01" name="Line 35"/>
                <p:cNvSpPr/>
                <p:nvPr/>
              </p:nvSpPr>
              <p:spPr>
                <a:xfrm>
                  <a:off x="4019400" y="3732120"/>
                  <a:ext cx="0" cy="41904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02" name="Line 36"/>
                <p:cNvSpPr/>
                <p:nvPr/>
              </p:nvSpPr>
              <p:spPr>
                <a:xfrm>
                  <a:off x="4933800" y="3751200"/>
                  <a:ext cx="0" cy="41904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03" name="Line 37"/>
                <p:cNvSpPr/>
                <p:nvPr/>
              </p:nvSpPr>
              <p:spPr>
                <a:xfrm>
                  <a:off x="6762600" y="3751200"/>
                  <a:ext cx="0" cy="47592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04" name="Line 38"/>
                <p:cNvSpPr/>
                <p:nvPr/>
              </p:nvSpPr>
              <p:spPr>
                <a:xfrm>
                  <a:off x="7677000" y="3751200"/>
                  <a:ext cx="0" cy="41904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05" name="Line 39"/>
                <p:cNvSpPr/>
                <p:nvPr/>
              </p:nvSpPr>
              <p:spPr>
                <a:xfrm>
                  <a:off x="5848200" y="3751200"/>
                  <a:ext cx="0" cy="41904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sp>
            <p:nvSpPr>
              <p:cNvPr id="206" name="Rectangle 40"/>
              <p:cNvSpPr/>
              <p:nvPr/>
            </p:nvSpPr>
            <p:spPr>
              <a:xfrm>
                <a:off x="821880" y="4176720"/>
                <a:ext cx="4136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0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07" name="Rectangle 41"/>
              <p:cNvSpPr/>
              <p:nvPr/>
            </p:nvSpPr>
            <p:spPr>
              <a:xfrm>
                <a:off x="1983960" y="4176720"/>
                <a:ext cx="4136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1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08" name="Rectangle 42"/>
              <p:cNvSpPr/>
              <p:nvPr/>
            </p:nvSpPr>
            <p:spPr>
              <a:xfrm>
                <a:off x="2917440" y="4176720"/>
                <a:ext cx="4136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2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09" name="Rectangle 43"/>
              <p:cNvSpPr/>
              <p:nvPr/>
            </p:nvSpPr>
            <p:spPr>
              <a:xfrm>
                <a:off x="3812760" y="4176720"/>
                <a:ext cx="4136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3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10" name="Rectangle 44"/>
              <p:cNvSpPr/>
              <p:nvPr/>
            </p:nvSpPr>
            <p:spPr>
              <a:xfrm>
                <a:off x="4746240" y="4176720"/>
                <a:ext cx="4136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4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11" name="Rectangle 45"/>
              <p:cNvSpPr/>
              <p:nvPr/>
            </p:nvSpPr>
            <p:spPr>
              <a:xfrm>
                <a:off x="5660640" y="4176720"/>
                <a:ext cx="4136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5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12" name="Rectangle 46"/>
              <p:cNvSpPr/>
              <p:nvPr/>
            </p:nvSpPr>
            <p:spPr>
              <a:xfrm>
                <a:off x="8632440" y="4157640"/>
                <a:ext cx="4136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8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13" name="Rectangle 47"/>
              <p:cNvSpPr/>
              <p:nvPr/>
            </p:nvSpPr>
            <p:spPr>
              <a:xfrm>
                <a:off x="6536880" y="4176720"/>
                <a:ext cx="4136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6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14" name="Rectangle 48"/>
              <p:cNvSpPr/>
              <p:nvPr/>
            </p:nvSpPr>
            <p:spPr>
              <a:xfrm>
                <a:off x="7470360" y="4160880"/>
                <a:ext cx="4136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7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sp>
          <p:nvSpPr>
            <p:cNvPr id="215" name="Rectangle 49"/>
            <p:cNvSpPr/>
            <p:nvPr/>
          </p:nvSpPr>
          <p:spPr>
            <a:xfrm>
              <a:off x="473760" y="3124080"/>
              <a:ext cx="86918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(500)    150   150   150   150   150  (300)    0         0 </a:t>
              </a:r>
              <a:endParaRPr b="1" lang="en-US" sz="32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0" y="304920"/>
            <a:ext cx="5740560" cy="93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iscounted Payback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2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Discounts the cash flows at the firm’s required rate of return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Payback period is calculated using these discounted net cash flow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oblems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Cutoffs are still subjectiv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Still does not examine all cash flow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1111320" y="216000"/>
            <a:ext cx="655956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682640" y="43920"/>
            <a:ext cx="5378400" cy="7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iscounted Payback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1506240" y="814320"/>
            <a:ext cx="5842080" cy="1486080"/>
            <a:chOff x="1506240" y="814320"/>
            <a:chExt cx="5842080" cy="1486080"/>
          </a:xfrm>
        </p:grpSpPr>
        <p:grpSp>
          <p:nvGrpSpPr>
            <p:cNvPr id="221" name="Group 5"/>
            <p:cNvGrpSpPr/>
            <p:nvPr/>
          </p:nvGrpSpPr>
          <p:grpSpPr>
            <a:xfrm>
              <a:off x="1831320" y="1378080"/>
              <a:ext cx="5202000" cy="922320"/>
              <a:chOff x="1831320" y="1378080"/>
              <a:chExt cx="5202000" cy="922320"/>
            </a:xfrm>
          </p:grpSpPr>
          <p:sp>
            <p:nvSpPr>
              <p:cNvPr id="222" name="Line 6"/>
              <p:cNvSpPr/>
              <p:nvPr/>
            </p:nvSpPr>
            <p:spPr>
              <a:xfrm>
                <a:off x="2019240" y="1625760"/>
                <a:ext cx="4800600" cy="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23" name="Line 7"/>
              <p:cNvSpPr/>
              <p:nvPr/>
            </p:nvSpPr>
            <p:spPr>
              <a:xfrm>
                <a:off x="3200400" y="139716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24" name="Line 8"/>
              <p:cNvSpPr/>
              <p:nvPr/>
            </p:nvSpPr>
            <p:spPr>
              <a:xfrm>
                <a:off x="2019240" y="1434960"/>
                <a:ext cx="0" cy="41940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25" name="Line 9"/>
              <p:cNvSpPr/>
              <p:nvPr/>
            </p:nvSpPr>
            <p:spPr>
              <a:xfrm>
                <a:off x="4114800" y="139716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26" name="Line 10"/>
              <p:cNvSpPr/>
              <p:nvPr/>
            </p:nvSpPr>
            <p:spPr>
              <a:xfrm>
                <a:off x="5029200" y="137808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27" name="Line 11"/>
              <p:cNvSpPr/>
              <p:nvPr/>
            </p:nvSpPr>
            <p:spPr>
              <a:xfrm>
                <a:off x="5943600" y="139716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28" name="Line 12"/>
              <p:cNvSpPr/>
              <p:nvPr/>
            </p:nvSpPr>
            <p:spPr>
              <a:xfrm>
                <a:off x="6858000" y="139716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29" name="Rectangle 13"/>
              <p:cNvSpPr/>
              <p:nvPr/>
            </p:nvSpPr>
            <p:spPr>
              <a:xfrm>
                <a:off x="1831320" y="178128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endParaRPr b="1" lang="en-US" sz="2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30" name="Rectangle 14"/>
              <p:cNvSpPr/>
              <p:nvPr/>
            </p:nvSpPr>
            <p:spPr>
              <a:xfrm>
                <a:off x="3031560" y="174312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endParaRPr b="1" lang="en-US" sz="2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31" name="Rectangle 15"/>
              <p:cNvSpPr/>
              <p:nvPr/>
            </p:nvSpPr>
            <p:spPr>
              <a:xfrm>
                <a:off x="3945960" y="174312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2</a:t>
                </a:r>
                <a:endParaRPr b="1" lang="en-US" sz="2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32" name="Rectangle 16"/>
              <p:cNvSpPr/>
              <p:nvPr/>
            </p:nvSpPr>
            <p:spPr>
              <a:xfrm>
                <a:off x="4841280" y="174312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3</a:t>
                </a:r>
                <a:endParaRPr b="1" lang="en-US" sz="2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33" name="Rectangle 17"/>
              <p:cNvSpPr/>
              <p:nvPr/>
            </p:nvSpPr>
            <p:spPr>
              <a:xfrm>
                <a:off x="5736600" y="176220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4</a:t>
                </a:r>
                <a:endParaRPr b="1" lang="en-US" sz="2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34" name="Rectangle 18"/>
              <p:cNvSpPr/>
              <p:nvPr/>
            </p:nvSpPr>
            <p:spPr>
              <a:xfrm>
                <a:off x="6670080" y="176220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5</a:t>
                </a:r>
                <a:endParaRPr b="1" lang="en-US" sz="2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sp>
          <p:nvSpPr>
            <p:cNvPr id="235" name="Rectangle 19"/>
            <p:cNvSpPr/>
            <p:nvPr/>
          </p:nvSpPr>
          <p:spPr>
            <a:xfrm>
              <a:off x="1506240" y="814320"/>
              <a:ext cx="5842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(500)      250     250    250    250    250  </a:t>
              </a:r>
              <a:endParaRPr b="1" lang="en-US" sz="2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62080" y="2311560"/>
            <a:ext cx="7067520" cy="432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scount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Year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ash Flow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F (14%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-500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-500.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250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cc66"/>
                </a:solidFill>
                <a:uFillTx/>
                <a:latin typeface="Times New Roman"/>
              </a:rPr>
              <a:t>219.30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1111320" y="216000"/>
            <a:ext cx="655956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82640" y="43920"/>
            <a:ext cx="5378400" cy="7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iscounted Payback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39" name="Group 4"/>
          <p:cNvGrpSpPr/>
          <p:nvPr/>
        </p:nvGrpSpPr>
        <p:grpSpPr>
          <a:xfrm>
            <a:off x="1506240" y="814320"/>
            <a:ext cx="5842080" cy="1486080"/>
            <a:chOff x="1506240" y="814320"/>
            <a:chExt cx="5842080" cy="1486080"/>
          </a:xfrm>
        </p:grpSpPr>
        <p:grpSp>
          <p:nvGrpSpPr>
            <p:cNvPr id="240" name="Group 5"/>
            <p:cNvGrpSpPr/>
            <p:nvPr/>
          </p:nvGrpSpPr>
          <p:grpSpPr>
            <a:xfrm>
              <a:off x="1831320" y="1378080"/>
              <a:ext cx="5202000" cy="922320"/>
              <a:chOff x="1831320" y="1378080"/>
              <a:chExt cx="5202000" cy="922320"/>
            </a:xfrm>
          </p:grpSpPr>
          <p:sp>
            <p:nvSpPr>
              <p:cNvPr id="241" name="Line 6"/>
              <p:cNvSpPr/>
              <p:nvPr/>
            </p:nvSpPr>
            <p:spPr>
              <a:xfrm>
                <a:off x="2019240" y="1625760"/>
                <a:ext cx="4800600" cy="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42" name="Line 7"/>
              <p:cNvSpPr/>
              <p:nvPr/>
            </p:nvSpPr>
            <p:spPr>
              <a:xfrm>
                <a:off x="3200400" y="139716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43" name="Line 8"/>
              <p:cNvSpPr/>
              <p:nvPr/>
            </p:nvSpPr>
            <p:spPr>
              <a:xfrm>
                <a:off x="2019240" y="1434960"/>
                <a:ext cx="0" cy="41940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44" name="Line 9"/>
              <p:cNvSpPr/>
              <p:nvPr/>
            </p:nvSpPr>
            <p:spPr>
              <a:xfrm>
                <a:off x="4114800" y="139716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45" name="Line 10"/>
              <p:cNvSpPr/>
              <p:nvPr/>
            </p:nvSpPr>
            <p:spPr>
              <a:xfrm>
                <a:off x="5029200" y="137808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46" name="Line 11"/>
              <p:cNvSpPr/>
              <p:nvPr/>
            </p:nvSpPr>
            <p:spPr>
              <a:xfrm>
                <a:off x="5943600" y="139716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47" name="Line 12"/>
              <p:cNvSpPr/>
              <p:nvPr/>
            </p:nvSpPr>
            <p:spPr>
              <a:xfrm>
                <a:off x="6858000" y="139716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48" name="Rectangle 13"/>
              <p:cNvSpPr/>
              <p:nvPr/>
            </p:nvSpPr>
            <p:spPr>
              <a:xfrm>
                <a:off x="1831320" y="178128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endParaRPr b="1" lang="en-US" sz="2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49" name="Rectangle 14"/>
              <p:cNvSpPr/>
              <p:nvPr/>
            </p:nvSpPr>
            <p:spPr>
              <a:xfrm>
                <a:off x="3031560" y="174312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endParaRPr b="1" lang="en-US" sz="2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50" name="Rectangle 15"/>
              <p:cNvSpPr/>
              <p:nvPr/>
            </p:nvSpPr>
            <p:spPr>
              <a:xfrm>
                <a:off x="3945960" y="174312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2</a:t>
                </a:r>
                <a:endParaRPr b="1" lang="en-US" sz="2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51" name="Rectangle 16"/>
              <p:cNvSpPr/>
              <p:nvPr/>
            </p:nvSpPr>
            <p:spPr>
              <a:xfrm>
                <a:off x="4841280" y="174312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3</a:t>
                </a:r>
                <a:endParaRPr b="1" lang="en-US" sz="2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52" name="Rectangle 17"/>
              <p:cNvSpPr/>
              <p:nvPr/>
            </p:nvSpPr>
            <p:spPr>
              <a:xfrm>
                <a:off x="5736600" y="176220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4</a:t>
                </a:r>
                <a:endParaRPr b="1" lang="en-US" sz="2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53" name="Rectangle 18"/>
              <p:cNvSpPr/>
              <p:nvPr/>
            </p:nvSpPr>
            <p:spPr>
              <a:xfrm>
                <a:off x="6670080" y="176220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5</a:t>
                </a:r>
                <a:endParaRPr b="1" lang="en-US" sz="2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sp>
          <p:nvSpPr>
            <p:cNvPr id="254" name="Rectangle 19"/>
            <p:cNvSpPr/>
            <p:nvPr/>
          </p:nvSpPr>
          <p:spPr>
            <a:xfrm>
              <a:off x="1506240" y="814320"/>
              <a:ext cx="5842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(500)      250     250    250    250    250  </a:t>
              </a:r>
              <a:endParaRPr b="1" lang="en-US" sz="2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255" name="Rectangle 20"/>
          <p:cNvSpPr/>
          <p:nvPr/>
        </p:nvSpPr>
        <p:spPr>
          <a:xfrm>
            <a:off x="6311880" y="4006800"/>
            <a:ext cx="1492200" cy="61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62080" y="2311560"/>
            <a:ext cx="7067520" cy="432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scount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Year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ash Flow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F (14%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-500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-500.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250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cc66"/>
                </a:solidFill>
                <a:uFillTx/>
                <a:latin typeface="Times New Roman"/>
              </a:rPr>
              <a:t>219.30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 ye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280.7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1111320" y="216000"/>
            <a:ext cx="655956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82640" y="43920"/>
            <a:ext cx="5378400" cy="7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iscounted Payback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59" name="Group 4"/>
          <p:cNvGrpSpPr/>
          <p:nvPr/>
        </p:nvGrpSpPr>
        <p:grpSpPr>
          <a:xfrm>
            <a:off x="1506240" y="814320"/>
            <a:ext cx="5842080" cy="1486080"/>
            <a:chOff x="1506240" y="814320"/>
            <a:chExt cx="5842080" cy="1486080"/>
          </a:xfrm>
        </p:grpSpPr>
        <p:grpSp>
          <p:nvGrpSpPr>
            <p:cNvPr id="260" name="Group 5"/>
            <p:cNvGrpSpPr/>
            <p:nvPr/>
          </p:nvGrpSpPr>
          <p:grpSpPr>
            <a:xfrm>
              <a:off x="1831320" y="1378080"/>
              <a:ext cx="5202000" cy="922320"/>
              <a:chOff x="1831320" y="1378080"/>
              <a:chExt cx="5202000" cy="922320"/>
            </a:xfrm>
          </p:grpSpPr>
          <p:sp>
            <p:nvSpPr>
              <p:cNvPr id="261" name="Line 6"/>
              <p:cNvSpPr/>
              <p:nvPr/>
            </p:nvSpPr>
            <p:spPr>
              <a:xfrm>
                <a:off x="2019240" y="1625760"/>
                <a:ext cx="4800600" cy="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62" name="Line 7"/>
              <p:cNvSpPr/>
              <p:nvPr/>
            </p:nvSpPr>
            <p:spPr>
              <a:xfrm>
                <a:off x="3200400" y="139716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63" name="Line 8"/>
              <p:cNvSpPr/>
              <p:nvPr/>
            </p:nvSpPr>
            <p:spPr>
              <a:xfrm>
                <a:off x="2019240" y="1434960"/>
                <a:ext cx="0" cy="41940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64" name="Line 9"/>
              <p:cNvSpPr/>
              <p:nvPr/>
            </p:nvSpPr>
            <p:spPr>
              <a:xfrm>
                <a:off x="4114800" y="139716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65" name="Line 10"/>
              <p:cNvSpPr/>
              <p:nvPr/>
            </p:nvSpPr>
            <p:spPr>
              <a:xfrm>
                <a:off x="5029200" y="137808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66" name="Line 11"/>
              <p:cNvSpPr/>
              <p:nvPr/>
            </p:nvSpPr>
            <p:spPr>
              <a:xfrm>
                <a:off x="5943600" y="139716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67" name="Line 12"/>
              <p:cNvSpPr/>
              <p:nvPr/>
            </p:nvSpPr>
            <p:spPr>
              <a:xfrm>
                <a:off x="6858000" y="139716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68" name="Rectangle 13"/>
              <p:cNvSpPr/>
              <p:nvPr/>
            </p:nvSpPr>
            <p:spPr>
              <a:xfrm>
                <a:off x="1831320" y="178128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endParaRPr b="1" lang="en-US" sz="2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69" name="Rectangle 14"/>
              <p:cNvSpPr/>
              <p:nvPr/>
            </p:nvSpPr>
            <p:spPr>
              <a:xfrm>
                <a:off x="3031560" y="174312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endParaRPr b="1" lang="en-US" sz="2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70" name="Rectangle 15"/>
              <p:cNvSpPr/>
              <p:nvPr/>
            </p:nvSpPr>
            <p:spPr>
              <a:xfrm>
                <a:off x="3945960" y="174312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2</a:t>
                </a:r>
                <a:endParaRPr b="1" lang="en-US" sz="2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71" name="Rectangle 16"/>
              <p:cNvSpPr/>
              <p:nvPr/>
            </p:nvSpPr>
            <p:spPr>
              <a:xfrm>
                <a:off x="4841280" y="174312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3</a:t>
                </a:r>
                <a:endParaRPr b="1" lang="en-US" sz="2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72" name="Rectangle 17"/>
              <p:cNvSpPr/>
              <p:nvPr/>
            </p:nvSpPr>
            <p:spPr>
              <a:xfrm>
                <a:off x="5736600" y="176220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4</a:t>
                </a:r>
                <a:endParaRPr b="1" lang="en-US" sz="2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73" name="Rectangle 18"/>
              <p:cNvSpPr/>
              <p:nvPr/>
            </p:nvSpPr>
            <p:spPr>
              <a:xfrm>
                <a:off x="6670080" y="176220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5</a:t>
                </a:r>
                <a:endParaRPr b="1" lang="en-US" sz="2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sp>
          <p:nvSpPr>
            <p:cNvPr id="274" name="Rectangle 19"/>
            <p:cNvSpPr/>
            <p:nvPr/>
          </p:nvSpPr>
          <p:spPr>
            <a:xfrm>
              <a:off x="1506240" y="814320"/>
              <a:ext cx="5842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(500)      250     250    250    250    250  </a:t>
              </a:r>
              <a:endParaRPr b="1" lang="en-US" sz="2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62080" y="2311560"/>
            <a:ext cx="7067520" cy="432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scount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Year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ash Flow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F (14%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-500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-500.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250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cc66"/>
                </a:solidFill>
                <a:uFillTx/>
                <a:latin typeface="Times New Roman"/>
              </a:rPr>
              <a:t>219.30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 ye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280.7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250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cc66"/>
                </a:solidFill>
                <a:uFillTx/>
                <a:latin typeface="Times New Roman"/>
              </a:rPr>
              <a:t>192.37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1111320" y="216000"/>
            <a:ext cx="655956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82640" y="43920"/>
            <a:ext cx="5378400" cy="7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iscounted Payback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78" name="Group 4"/>
          <p:cNvGrpSpPr/>
          <p:nvPr/>
        </p:nvGrpSpPr>
        <p:grpSpPr>
          <a:xfrm>
            <a:off x="1506240" y="814320"/>
            <a:ext cx="5842080" cy="1486080"/>
            <a:chOff x="1506240" y="814320"/>
            <a:chExt cx="5842080" cy="1486080"/>
          </a:xfrm>
        </p:grpSpPr>
        <p:grpSp>
          <p:nvGrpSpPr>
            <p:cNvPr id="279" name="Group 5"/>
            <p:cNvGrpSpPr/>
            <p:nvPr/>
          </p:nvGrpSpPr>
          <p:grpSpPr>
            <a:xfrm>
              <a:off x="1831320" y="1378080"/>
              <a:ext cx="5202000" cy="922320"/>
              <a:chOff x="1831320" y="1378080"/>
              <a:chExt cx="5202000" cy="922320"/>
            </a:xfrm>
          </p:grpSpPr>
          <p:sp>
            <p:nvSpPr>
              <p:cNvPr id="280" name="Line 6"/>
              <p:cNvSpPr/>
              <p:nvPr/>
            </p:nvSpPr>
            <p:spPr>
              <a:xfrm>
                <a:off x="2019240" y="1625760"/>
                <a:ext cx="4800600" cy="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81" name="Line 7"/>
              <p:cNvSpPr/>
              <p:nvPr/>
            </p:nvSpPr>
            <p:spPr>
              <a:xfrm>
                <a:off x="3200400" y="139716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82" name="Line 8"/>
              <p:cNvSpPr/>
              <p:nvPr/>
            </p:nvSpPr>
            <p:spPr>
              <a:xfrm>
                <a:off x="2019240" y="1434960"/>
                <a:ext cx="0" cy="41940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83" name="Line 9"/>
              <p:cNvSpPr/>
              <p:nvPr/>
            </p:nvSpPr>
            <p:spPr>
              <a:xfrm>
                <a:off x="4114800" y="139716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84" name="Line 10"/>
              <p:cNvSpPr/>
              <p:nvPr/>
            </p:nvSpPr>
            <p:spPr>
              <a:xfrm>
                <a:off x="5029200" y="137808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85" name="Line 11"/>
              <p:cNvSpPr/>
              <p:nvPr/>
            </p:nvSpPr>
            <p:spPr>
              <a:xfrm>
                <a:off x="5943600" y="139716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86" name="Line 12"/>
              <p:cNvSpPr/>
              <p:nvPr/>
            </p:nvSpPr>
            <p:spPr>
              <a:xfrm>
                <a:off x="6858000" y="139716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87" name="Rectangle 13"/>
              <p:cNvSpPr/>
              <p:nvPr/>
            </p:nvSpPr>
            <p:spPr>
              <a:xfrm>
                <a:off x="1831320" y="178128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endParaRPr b="1" lang="en-US" sz="2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88" name="Rectangle 14"/>
              <p:cNvSpPr/>
              <p:nvPr/>
            </p:nvSpPr>
            <p:spPr>
              <a:xfrm>
                <a:off x="3031560" y="174312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endParaRPr b="1" lang="en-US" sz="2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89" name="Rectangle 15"/>
              <p:cNvSpPr/>
              <p:nvPr/>
            </p:nvSpPr>
            <p:spPr>
              <a:xfrm>
                <a:off x="3945960" y="174312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2</a:t>
                </a:r>
                <a:endParaRPr b="1" lang="en-US" sz="2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90" name="Rectangle 16"/>
              <p:cNvSpPr/>
              <p:nvPr/>
            </p:nvSpPr>
            <p:spPr>
              <a:xfrm>
                <a:off x="4841280" y="174312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3</a:t>
                </a:r>
                <a:endParaRPr b="1" lang="en-US" sz="2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91" name="Rectangle 17"/>
              <p:cNvSpPr/>
              <p:nvPr/>
            </p:nvSpPr>
            <p:spPr>
              <a:xfrm>
                <a:off x="5736600" y="176220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4</a:t>
                </a:r>
                <a:endParaRPr b="1" lang="en-US" sz="2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292" name="Rectangle 18"/>
              <p:cNvSpPr/>
              <p:nvPr/>
            </p:nvSpPr>
            <p:spPr>
              <a:xfrm>
                <a:off x="6670080" y="176220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5</a:t>
                </a:r>
                <a:endParaRPr b="1" lang="en-US" sz="2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sp>
          <p:nvSpPr>
            <p:cNvPr id="293" name="Rectangle 19"/>
            <p:cNvSpPr/>
            <p:nvPr/>
          </p:nvSpPr>
          <p:spPr>
            <a:xfrm>
              <a:off x="1506240" y="814320"/>
              <a:ext cx="5842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(500)      250     250    250    250    250  </a:t>
              </a:r>
              <a:endParaRPr b="1" lang="en-US" sz="2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294" name="Rectangle 20"/>
          <p:cNvSpPr/>
          <p:nvPr/>
        </p:nvSpPr>
        <p:spPr>
          <a:xfrm>
            <a:off x="6235560" y="4997520"/>
            <a:ext cx="1492560" cy="61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62080" y="2311560"/>
            <a:ext cx="7067520" cy="432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scount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Year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ash Flow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F (14%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-500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-500.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250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cc66"/>
                </a:solidFill>
                <a:uFillTx/>
                <a:latin typeface="Times New Roman"/>
              </a:rPr>
              <a:t>219.30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 ye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280.7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250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cc66"/>
                </a:solidFill>
                <a:uFillTx/>
                <a:latin typeface="Times New Roman"/>
              </a:rPr>
              <a:t>192.37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 yea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88.3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1111320" y="216000"/>
            <a:ext cx="655956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82640" y="43920"/>
            <a:ext cx="5378400" cy="7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iscounted Payback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98" name="Group 4"/>
          <p:cNvGrpSpPr/>
          <p:nvPr/>
        </p:nvGrpSpPr>
        <p:grpSpPr>
          <a:xfrm>
            <a:off x="1506240" y="814320"/>
            <a:ext cx="5842080" cy="1486080"/>
            <a:chOff x="1506240" y="814320"/>
            <a:chExt cx="5842080" cy="1486080"/>
          </a:xfrm>
        </p:grpSpPr>
        <p:grpSp>
          <p:nvGrpSpPr>
            <p:cNvPr id="299" name="Group 5"/>
            <p:cNvGrpSpPr/>
            <p:nvPr/>
          </p:nvGrpSpPr>
          <p:grpSpPr>
            <a:xfrm>
              <a:off x="1831320" y="1378080"/>
              <a:ext cx="5202000" cy="922320"/>
              <a:chOff x="1831320" y="1378080"/>
              <a:chExt cx="5202000" cy="922320"/>
            </a:xfrm>
          </p:grpSpPr>
          <p:sp>
            <p:nvSpPr>
              <p:cNvPr id="300" name="Line 6"/>
              <p:cNvSpPr/>
              <p:nvPr/>
            </p:nvSpPr>
            <p:spPr>
              <a:xfrm>
                <a:off x="2019240" y="1625760"/>
                <a:ext cx="4800600" cy="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301" name="Line 7"/>
              <p:cNvSpPr/>
              <p:nvPr/>
            </p:nvSpPr>
            <p:spPr>
              <a:xfrm>
                <a:off x="3200400" y="139716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302" name="Line 8"/>
              <p:cNvSpPr/>
              <p:nvPr/>
            </p:nvSpPr>
            <p:spPr>
              <a:xfrm>
                <a:off x="2019240" y="1434960"/>
                <a:ext cx="0" cy="41940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303" name="Line 9"/>
              <p:cNvSpPr/>
              <p:nvPr/>
            </p:nvSpPr>
            <p:spPr>
              <a:xfrm>
                <a:off x="4114800" y="139716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304" name="Line 10"/>
              <p:cNvSpPr/>
              <p:nvPr/>
            </p:nvSpPr>
            <p:spPr>
              <a:xfrm>
                <a:off x="5029200" y="137808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305" name="Line 11"/>
              <p:cNvSpPr/>
              <p:nvPr/>
            </p:nvSpPr>
            <p:spPr>
              <a:xfrm>
                <a:off x="5943600" y="139716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306" name="Line 12"/>
              <p:cNvSpPr/>
              <p:nvPr/>
            </p:nvSpPr>
            <p:spPr>
              <a:xfrm>
                <a:off x="6858000" y="139716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307" name="Rectangle 13"/>
              <p:cNvSpPr/>
              <p:nvPr/>
            </p:nvSpPr>
            <p:spPr>
              <a:xfrm>
                <a:off x="1831320" y="178128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endParaRPr b="1" lang="en-US" sz="2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308" name="Rectangle 14"/>
              <p:cNvSpPr/>
              <p:nvPr/>
            </p:nvSpPr>
            <p:spPr>
              <a:xfrm>
                <a:off x="3031560" y="174312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endParaRPr b="1" lang="en-US" sz="2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309" name="Rectangle 15"/>
              <p:cNvSpPr/>
              <p:nvPr/>
            </p:nvSpPr>
            <p:spPr>
              <a:xfrm>
                <a:off x="3945960" y="174312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2</a:t>
                </a:r>
                <a:endParaRPr b="1" lang="en-US" sz="2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310" name="Rectangle 16"/>
              <p:cNvSpPr/>
              <p:nvPr/>
            </p:nvSpPr>
            <p:spPr>
              <a:xfrm>
                <a:off x="4841280" y="174312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3</a:t>
                </a:r>
                <a:endParaRPr b="1" lang="en-US" sz="2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311" name="Rectangle 17"/>
              <p:cNvSpPr/>
              <p:nvPr/>
            </p:nvSpPr>
            <p:spPr>
              <a:xfrm>
                <a:off x="5736600" y="176220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4</a:t>
                </a:r>
                <a:endParaRPr b="1" lang="en-US" sz="2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312" name="Rectangle 18"/>
              <p:cNvSpPr/>
              <p:nvPr/>
            </p:nvSpPr>
            <p:spPr>
              <a:xfrm>
                <a:off x="6670080" y="176220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5</a:t>
                </a:r>
                <a:endParaRPr b="1" lang="en-US" sz="2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sp>
          <p:nvSpPr>
            <p:cNvPr id="313" name="Rectangle 19"/>
            <p:cNvSpPr/>
            <p:nvPr/>
          </p:nvSpPr>
          <p:spPr>
            <a:xfrm>
              <a:off x="1506240" y="814320"/>
              <a:ext cx="5842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(500)      250     250    250    250    250  </a:t>
              </a:r>
              <a:endParaRPr b="1" lang="en-US" sz="2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62080" y="2311560"/>
            <a:ext cx="7067520" cy="432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scount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Year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ash Flow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F (14%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-500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-500.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250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cc66"/>
                </a:solidFill>
                <a:uFillTx/>
                <a:latin typeface="Times New Roman"/>
              </a:rPr>
              <a:t>219.30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 ye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280.7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250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cc66"/>
                </a:solidFill>
                <a:uFillTx/>
                <a:latin typeface="Times New Roman"/>
              </a:rPr>
              <a:t>192.37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 yea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88.3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250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168.7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6388200" y="6026040"/>
            <a:ext cx="1492200" cy="61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1111320" y="216000"/>
            <a:ext cx="655956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82640" y="43920"/>
            <a:ext cx="5378400" cy="7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iscounted Payback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18" name="Group 5"/>
          <p:cNvGrpSpPr/>
          <p:nvPr/>
        </p:nvGrpSpPr>
        <p:grpSpPr>
          <a:xfrm>
            <a:off x="1506240" y="814320"/>
            <a:ext cx="5842080" cy="1486080"/>
            <a:chOff x="1506240" y="814320"/>
            <a:chExt cx="5842080" cy="1486080"/>
          </a:xfrm>
        </p:grpSpPr>
        <p:grpSp>
          <p:nvGrpSpPr>
            <p:cNvPr id="319" name="Group 6"/>
            <p:cNvGrpSpPr/>
            <p:nvPr/>
          </p:nvGrpSpPr>
          <p:grpSpPr>
            <a:xfrm>
              <a:off x="1831320" y="1378080"/>
              <a:ext cx="5202000" cy="922320"/>
              <a:chOff x="1831320" y="1378080"/>
              <a:chExt cx="5202000" cy="922320"/>
            </a:xfrm>
          </p:grpSpPr>
          <p:sp>
            <p:nvSpPr>
              <p:cNvPr id="320" name="Line 7"/>
              <p:cNvSpPr/>
              <p:nvPr/>
            </p:nvSpPr>
            <p:spPr>
              <a:xfrm>
                <a:off x="2019240" y="1625760"/>
                <a:ext cx="4800600" cy="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321" name="Line 8"/>
              <p:cNvSpPr/>
              <p:nvPr/>
            </p:nvSpPr>
            <p:spPr>
              <a:xfrm>
                <a:off x="3200400" y="139716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322" name="Line 9"/>
              <p:cNvSpPr/>
              <p:nvPr/>
            </p:nvSpPr>
            <p:spPr>
              <a:xfrm>
                <a:off x="2019240" y="1434960"/>
                <a:ext cx="0" cy="41940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323" name="Line 10"/>
              <p:cNvSpPr/>
              <p:nvPr/>
            </p:nvSpPr>
            <p:spPr>
              <a:xfrm>
                <a:off x="4114800" y="139716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324" name="Line 11"/>
              <p:cNvSpPr/>
              <p:nvPr/>
            </p:nvSpPr>
            <p:spPr>
              <a:xfrm>
                <a:off x="5029200" y="137808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325" name="Line 12"/>
              <p:cNvSpPr/>
              <p:nvPr/>
            </p:nvSpPr>
            <p:spPr>
              <a:xfrm>
                <a:off x="5943600" y="139716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326" name="Line 13"/>
              <p:cNvSpPr/>
              <p:nvPr/>
            </p:nvSpPr>
            <p:spPr>
              <a:xfrm>
                <a:off x="6858000" y="139716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327" name="Rectangle 14"/>
              <p:cNvSpPr/>
              <p:nvPr/>
            </p:nvSpPr>
            <p:spPr>
              <a:xfrm>
                <a:off x="1831320" y="178128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endParaRPr b="1" lang="en-US" sz="2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328" name="Rectangle 15"/>
              <p:cNvSpPr/>
              <p:nvPr/>
            </p:nvSpPr>
            <p:spPr>
              <a:xfrm>
                <a:off x="3031560" y="174312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endParaRPr b="1" lang="en-US" sz="2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329" name="Rectangle 16"/>
              <p:cNvSpPr/>
              <p:nvPr/>
            </p:nvSpPr>
            <p:spPr>
              <a:xfrm>
                <a:off x="3945960" y="174312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2</a:t>
                </a:r>
                <a:endParaRPr b="1" lang="en-US" sz="2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330" name="Rectangle 17"/>
              <p:cNvSpPr/>
              <p:nvPr/>
            </p:nvSpPr>
            <p:spPr>
              <a:xfrm>
                <a:off x="4841280" y="174312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3</a:t>
                </a:r>
                <a:endParaRPr b="1" lang="en-US" sz="2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331" name="Rectangle 18"/>
              <p:cNvSpPr/>
              <p:nvPr/>
            </p:nvSpPr>
            <p:spPr>
              <a:xfrm>
                <a:off x="5736600" y="176220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4</a:t>
                </a:r>
                <a:endParaRPr b="1" lang="en-US" sz="2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332" name="Rectangle 19"/>
              <p:cNvSpPr/>
              <p:nvPr/>
            </p:nvSpPr>
            <p:spPr>
              <a:xfrm>
                <a:off x="6670080" y="176220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5</a:t>
                </a:r>
                <a:endParaRPr b="1" lang="en-US" sz="2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sp>
          <p:nvSpPr>
            <p:cNvPr id="333" name="Rectangle 20"/>
            <p:cNvSpPr/>
            <p:nvPr/>
          </p:nvSpPr>
          <p:spPr>
            <a:xfrm>
              <a:off x="1506240" y="814320"/>
              <a:ext cx="5842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(500)      250     250    250    250    250  </a:t>
              </a:r>
              <a:endParaRPr b="1" lang="en-US" sz="2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62080" y="2311560"/>
            <a:ext cx="7067520" cy="432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scount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Year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ash Flow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F (14%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-500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-500.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250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cc66"/>
                </a:solidFill>
                <a:uFillTx/>
                <a:latin typeface="Times New Roman"/>
              </a:rPr>
              <a:t>219.30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 ye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280.7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250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cc66"/>
                </a:solidFill>
                <a:uFillTx/>
                <a:latin typeface="Times New Roman"/>
              </a:rPr>
              <a:t>192.37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 yea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88.3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250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168.74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.52 yea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6388200" y="6026040"/>
            <a:ext cx="1492200" cy="615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1111320" y="216000"/>
            <a:ext cx="655956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82640" y="43920"/>
            <a:ext cx="5378400" cy="7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iscounted Payback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38" name="Group 5"/>
          <p:cNvGrpSpPr/>
          <p:nvPr/>
        </p:nvGrpSpPr>
        <p:grpSpPr>
          <a:xfrm>
            <a:off x="1506240" y="814320"/>
            <a:ext cx="5842080" cy="1486080"/>
            <a:chOff x="1506240" y="814320"/>
            <a:chExt cx="5842080" cy="1486080"/>
          </a:xfrm>
        </p:grpSpPr>
        <p:grpSp>
          <p:nvGrpSpPr>
            <p:cNvPr id="339" name="Group 6"/>
            <p:cNvGrpSpPr/>
            <p:nvPr/>
          </p:nvGrpSpPr>
          <p:grpSpPr>
            <a:xfrm>
              <a:off x="1831320" y="1378080"/>
              <a:ext cx="5202000" cy="922320"/>
              <a:chOff x="1831320" y="1378080"/>
              <a:chExt cx="5202000" cy="922320"/>
            </a:xfrm>
          </p:grpSpPr>
          <p:sp>
            <p:nvSpPr>
              <p:cNvPr id="340" name="Line 7"/>
              <p:cNvSpPr/>
              <p:nvPr/>
            </p:nvSpPr>
            <p:spPr>
              <a:xfrm>
                <a:off x="2019240" y="1625760"/>
                <a:ext cx="4800600" cy="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341" name="Line 8"/>
              <p:cNvSpPr/>
              <p:nvPr/>
            </p:nvSpPr>
            <p:spPr>
              <a:xfrm>
                <a:off x="3200400" y="139716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342" name="Line 9"/>
              <p:cNvSpPr/>
              <p:nvPr/>
            </p:nvSpPr>
            <p:spPr>
              <a:xfrm>
                <a:off x="2019240" y="1434960"/>
                <a:ext cx="0" cy="41940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343" name="Line 10"/>
              <p:cNvSpPr/>
              <p:nvPr/>
            </p:nvSpPr>
            <p:spPr>
              <a:xfrm>
                <a:off x="4114800" y="139716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344" name="Line 11"/>
              <p:cNvSpPr/>
              <p:nvPr/>
            </p:nvSpPr>
            <p:spPr>
              <a:xfrm>
                <a:off x="5029200" y="137808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345" name="Line 12"/>
              <p:cNvSpPr/>
              <p:nvPr/>
            </p:nvSpPr>
            <p:spPr>
              <a:xfrm>
                <a:off x="5943600" y="139716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346" name="Line 13"/>
              <p:cNvSpPr/>
              <p:nvPr/>
            </p:nvSpPr>
            <p:spPr>
              <a:xfrm>
                <a:off x="6858000" y="1397160"/>
                <a:ext cx="0" cy="419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347" name="Rectangle 14"/>
              <p:cNvSpPr/>
              <p:nvPr/>
            </p:nvSpPr>
            <p:spPr>
              <a:xfrm>
                <a:off x="1831320" y="178128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endParaRPr b="1" lang="en-US" sz="2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348" name="Rectangle 15"/>
              <p:cNvSpPr/>
              <p:nvPr/>
            </p:nvSpPr>
            <p:spPr>
              <a:xfrm>
                <a:off x="3031560" y="174312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endParaRPr b="1" lang="en-US" sz="2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349" name="Rectangle 16"/>
              <p:cNvSpPr/>
              <p:nvPr/>
            </p:nvSpPr>
            <p:spPr>
              <a:xfrm>
                <a:off x="3945960" y="174312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2</a:t>
                </a:r>
                <a:endParaRPr b="1" lang="en-US" sz="2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350" name="Rectangle 17"/>
              <p:cNvSpPr/>
              <p:nvPr/>
            </p:nvSpPr>
            <p:spPr>
              <a:xfrm>
                <a:off x="4841280" y="174312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3</a:t>
                </a:r>
                <a:endParaRPr b="1" lang="en-US" sz="2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351" name="Rectangle 18"/>
              <p:cNvSpPr/>
              <p:nvPr/>
            </p:nvSpPr>
            <p:spPr>
              <a:xfrm>
                <a:off x="5736600" y="176220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4</a:t>
                </a:r>
                <a:endParaRPr b="1" lang="en-US" sz="2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352" name="Rectangle 19"/>
              <p:cNvSpPr/>
              <p:nvPr/>
            </p:nvSpPr>
            <p:spPr>
              <a:xfrm>
                <a:off x="6670080" y="176220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5</a:t>
                </a:r>
                <a:endParaRPr b="1" lang="en-US" sz="2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sp>
          <p:nvSpPr>
            <p:cNvPr id="353" name="Rectangle 20"/>
            <p:cNvSpPr/>
            <p:nvPr/>
          </p:nvSpPr>
          <p:spPr>
            <a:xfrm>
              <a:off x="1506240" y="814320"/>
              <a:ext cx="5842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(500)      250     250    250    250    250  </a:t>
              </a:r>
              <a:endParaRPr b="1" lang="en-US" sz="2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62080" y="2311560"/>
            <a:ext cx="7067520" cy="432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scount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Year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ash Flow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F (14%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-500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-500.0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250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cc66"/>
                </a:solidFill>
                <a:uFillTx/>
                <a:latin typeface="Times New Roman"/>
              </a:rPr>
              <a:t>219.30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 ye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280.7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250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cc66"/>
                </a:solidFill>
                <a:uFillTx/>
                <a:latin typeface="Times New Roman"/>
              </a:rPr>
              <a:t>192.37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 yea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88.3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250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168.74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.52 yea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55" name="Group 26"/>
          <p:cNvGrpSpPr/>
          <p:nvPr/>
        </p:nvGrpSpPr>
        <p:grpSpPr>
          <a:xfrm>
            <a:off x="1689120" y="2546280"/>
            <a:ext cx="5327640" cy="2908440"/>
            <a:chOff x="1689120" y="2546280"/>
            <a:chExt cx="5327640" cy="2908440"/>
          </a:xfrm>
        </p:grpSpPr>
        <p:sp>
          <p:nvSpPr>
            <p:cNvPr id="356" name="Rectangle 23"/>
            <p:cNvSpPr/>
            <p:nvPr/>
          </p:nvSpPr>
          <p:spPr>
            <a:xfrm>
              <a:off x="1689120" y="2546280"/>
              <a:ext cx="5327640" cy="29084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357" name="Rectangle 25"/>
            <p:cNvSpPr/>
            <p:nvPr/>
          </p:nvSpPr>
          <p:spPr>
            <a:xfrm>
              <a:off x="2286000" y="3048120"/>
              <a:ext cx="4299120" cy="1738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The Discounted Payback </a:t>
              </a:r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is 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2.52</a:t>
              </a: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 years</a:t>
              </a:r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67942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Capital Budgeting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  the process of planning for purchases of long-term assets.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2362320"/>
            <a:ext cx="76770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example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Suppose our firm must decide whether to purchase a new plastic molding machine for $125,000.  How do we decid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Will the machine be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rofitable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Will our firm earn a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igh rate of return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on the investment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590920" y="304560"/>
            <a:ext cx="547344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Other Method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6197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)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et Present Value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(NPV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2)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rofitability Index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(PI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3)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ternal Rate of Return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(IRR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ach of these decision-making criteri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Examines all net cash flows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onsiders the time value of money, a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onsiders the required rate of retur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8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3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8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3" dur="5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5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8" dur="500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2971800" y="304920"/>
            <a:ext cx="49593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Net Present Value</a:t>
            </a:r>
            <a:endParaRPr b="1" lang="en-US" sz="4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914400" y="1752480"/>
            <a:ext cx="7753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PV = the total PV of the annual net cash flows - the initial outlay.</a:t>
            </a:r>
            <a:endParaRPr b="1" lang="en-US" sz="36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762120" y="3429000"/>
            <a:ext cx="8061840" cy="2692440"/>
            <a:chOff x="762120" y="3429000"/>
            <a:chExt cx="8061840" cy="2692440"/>
          </a:xfrm>
        </p:grpSpPr>
        <p:sp>
          <p:nvSpPr>
            <p:cNvPr id="363" name="Rectangle 4"/>
            <p:cNvSpPr/>
            <p:nvPr/>
          </p:nvSpPr>
          <p:spPr>
            <a:xfrm>
              <a:off x="762120" y="3429000"/>
              <a:ext cx="7931160" cy="2692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364" name="Group 11"/>
            <p:cNvGrpSpPr/>
            <p:nvPr/>
          </p:nvGrpSpPr>
          <p:grpSpPr>
            <a:xfrm>
              <a:off x="901440" y="3535200"/>
              <a:ext cx="7922520" cy="2287080"/>
              <a:chOff x="901440" y="3535200"/>
              <a:chExt cx="7922520" cy="2287080"/>
            </a:xfrm>
          </p:grpSpPr>
          <p:sp>
            <p:nvSpPr>
              <p:cNvPr id="365" name="Rectangle 5"/>
              <p:cNvSpPr/>
              <p:nvPr/>
            </p:nvSpPr>
            <p:spPr>
              <a:xfrm>
                <a:off x="901440" y="4198680"/>
                <a:ext cx="7922520" cy="82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Times New Roman"/>
                  </a:rPr>
                  <a:t>NPV</a:t>
                </a:r>
                <a:r>
                  <a:rPr b="1" lang="en-US" sz="4400" spc="-1" strike="noStrike">
                    <a:solidFill>
                      <a:srgbClr val="ffffff"/>
                    </a:solidFill>
                    <a:latin typeface="Times New Roman"/>
                  </a:rPr>
                  <a:t>   =                              -   IO  </a:t>
                </a:r>
                <a:endParaRPr b="1" lang="en-US" sz="44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366" name="Rectangle 6"/>
              <p:cNvSpPr/>
              <p:nvPr/>
            </p:nvSpPr>
            <p:spPr>
              <a:xfrm>
                <a:off x="4434480" y="3940200"/>
                <a:ext cx="1747080" cy="14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1" lang="en-US" sz="4400" spc="-1" strike="noStrike">
                    <a:solidFill>
                      <a:srgbClr val="ffffff"/>
                    </a:solidFill>
                    <a:latin typeface="Times New Roman"/>
                  </a:rPr>
                  <a:t>FCF</a:t>
                </a: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ff"/>
                    </a:solidFill>
                    <a:latin typeface="Times New Roman"/>
                  </a:rPr>
                  <a:t>(1 + k)</a:t>
                </a:r>
                <a:endParaRPr b="1" lang="en-US" sz="44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367" name="Rectangle 7"/>
              <p:cNvSpPr/>
              <p:nvPr/>
            </p:nvSpPr>
            <p:spPr>
              <a:xfrm>
                <a:off x="6225840" y="4545000"/>
                <a:ext cx="3373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368" name="Line 8"/>
              <p:cNvSpPr/>
              <p:nvPr/>
            </p:nvSpPr>
            <p:spPr>
              <a:xfrm>
                <a:off x="4203720" y="4603680"/>
                <a:ext cx="2286000" cy="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369" name="Rectangle 9"/>
              <p:cNvSpPr/>
              <p:nvPr/>
            </p:nvSpPr>
            <p:spPr>
              <a:xfrm>
                <a:off x="3197160" y="3535200"/>
                <a:ext cx="826560" cy="22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n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t=1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370" name="Rectangle 10"/>
              <p:cNvSpPr/>
              <p:nvPr/>
            </p:nvSpPr>
            <p:spPr>
              <a:xfrm>
                <a:off x="3062520" y="3844800"/>
                <a:ext cx="982080" cy="170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600" spc="-1" strike="noStrike">
                    <a:solidFill>
                      <a:srgbClr val="ffffff"/>
                    </a:solidFill>
                    <a:latin typeface="Symbol"/>
                  </a:rPr>
                  <a:t></a:t>
                </a:r>
                <a:endParaRPr b="1" lang="en-US" sz="10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</p:grp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209320" y="304920"/>
            <a:ext cx="58676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Net Present Valu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Decision Rule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If NPV is positive,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ccept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If NPV is negative,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eject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5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0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5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2971800" y="304920"/>
            <a:ext cx="539748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NPV Example</a:t>
            </a:r>
            <a:endParaRPr b="1" lang="en-US" sz="4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7848720" cy="260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uppose we are considering a capital investment that costs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$250,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and provides annual net cash flows of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$100,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for five years.  The firm’s required rate of return is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5%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2971800" y="304920"/>
            <a:ext cx="539748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NPV Example</a:t>
            </a:r>
            <a:endParaRPr b="1" lang="en-US" sz="40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376" name="Group 3"/>
          <p:cNvGrpSpPr/>
          <p:nvPr/>
        </p:nvGrpSpPr>
        <p:grpSpPr>
          <a:xfrm>
            <a:off x="6120" y="5029200"/>
            <a:ext cx="8963280" cy="1560240"/>
            <a:chOff x="6120" y="5029200"/>
            <a:chExt cx="8963280" cy="1560240"/>
          </a:xfrm>
        </p:grpSpPr>
        <p:sp>
          <p:nvSpPr>
            <p:cNvPr id="377" name="Line 4"/>
            <p:cNvSpPr/>
            <p:nvPr/>
          </p:nvSpPr>
          <p:spPr>
            <a:xfrm>
              <a:off x="701640" y="5789520"/>
              <a:ext cx="742320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378" name="Line 5"/>
            <p:cNvSpPr/>
            <p:nvPr/>
          </p:nvSpPr>
          <p:spPr>
            <a:xfrm>
              <a:off x="8162640" y="5573520"/>
              <a:ext cx="0" cy="3999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379" name="Line 6"/>
            <p:cNvSpPr/>
            <p:nvPr/>
          </p:nvSpPr>
          <p:spPr>
            <a:xfrm>
              <a:off x="2219040" y="5560920"/>
              <a:ext cx="0" cy="4190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380" name="Line 7"/>
            <p:cNvSpPr/>
            <p:nvPr/>
          </p:nvSpPr>
          <p:spPr>
            <a:xfrm>
              <a:off x="701640" y="5560920"/>
              <a:ext cx="0" cy="4190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381" name="Line 8"/>
            <p:cNvSpPr/>
            <p:nvPr/>
          </p:nvSpPr>
          <p:spPr>
            <a:xfrm>
              <a:off x="3692520" y="5580000"/>
              <a:ext cx="0" cy="4190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382" name="Line 9"/>
            <p:cNvSpPr/>
            <p:nvPr/>
          </p:nvSpPr>
          <p:spPr>
            <a:xfrm>
              <a:off x="5190840" y="5580000"/>
              <a:ext cx="0" cy="4190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383" name="Line 10"/>
            <p:cNvSpPr/>
            <p:nvPr/>
          </p:nvSpPr>
          <p:spPr>
            <a:xfrm>
              <a:off x="6638760" y="5560920"/>
              <a:ext cx="0" cy="4381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384" name="Rectangle 11"/>
            <p:cNvSpPr/>
            <p:nvPr/>
          </p:nvSpPr>
          <p:spPr>
            <a:xfrm>
              <a:off x="494640" y="5948280"/>
              <a:ext cx="7843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0           1           2           3           4           5</a:t>
              </a:r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385" name="Rectangle 12"/>
            <p:cNvSpPr/>
            <p:nvPr/>
          </p:nvSpPr>
          <p:spPr>
            <a:xfrm>
              <a:off x="6120" y="5029200"/>
              <a:ext cx="8963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(250,000)   100,000   100,000    100,000    100,000    100,000</a:t>
              </a:r>
              <a:endParaRPr b="1" lang="en-US" sz="2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7848720" cy="260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uppose we are considering a capital investment that costs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$250,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and provides annual net cash flows of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$100,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for five years.  The firm’s required rate of return is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5%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971800" y="304560"/>
            <a:ext cx="608328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Net Present Value (NPV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PV is just the PV of the annual cash flows minus the initial outflow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Using TVM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/Y = 1     N = 5      I = 15 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MT = 100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V of cash flows =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335,216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 Initial outflow: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($250,000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 Net PV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85,216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514240" y="304920"/>
            <a:ext cx="598788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NPV with the HP10B: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66680" y="1498320"/>
            <a:ext cx="7391520" cy="535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-250,000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Fj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00,000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Fj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5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ift  Nj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5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/YR   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ift  NPV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You should get NPV =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85,215.51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133360" y="304920"/>
            <a:ext cx="5987880" cy="76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NPV with the HP17BII: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498320"/>
            <a:ext cx="7772400" cy="482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elect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FLO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mod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LOW(0)=?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250,000  INPU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LOW(1)=?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00,000 INPU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#TIMES(1)=1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5 INPUT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I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LC      15   I%       NPV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You should get NPV =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85,215.51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trips dir="ld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8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3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8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3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8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3" dur="5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3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NPV with the TI BAII Plus: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62012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elect CF mod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3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NPV with the TI BAII Plus: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62012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elect CF mod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Fo=?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250,000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T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Line 4"/>
          <p:cNvSpPr/>
          <p:nvPr/>
        </p:nvSpPr>
        <p:spPr>
          <a:xfrm>
            <a:off x="7543800" y="2462040"/>
            <a:ext cx="0" cy="46548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546960" cy="14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ecision-making Criteria in Capital Budgeting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800240" y="2476080"/>
            <a:ext cx="3809880" cy="384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How do we decide if a capital investment project should be accepted or rejected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4442040" cy="4495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3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NPV with the TI BAII Plus: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62012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elect CF mod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Fo=?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250,000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TER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01=?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00,000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T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7543800" y="2462040"/>
            <a:ext cx="12600" cy="1105200"/>
            <a:chOff x="7543800" y="2462040"/>
            <a:chExt cx="12600" cy="1105200"/>
          </a:xfrm>
        </p:grpSpPr>
        <p:sp>
          <p:nvSpPr>
            <p:cNvPr id="401" name="Line 5"/>
            <p:cNvSpPr/>
            <p:nvPr/>
          </p:nvSpPr>
          <p:spPr>
            <a:xfrm>
              <a:off x="7543800" y="2462040"/>
              <a:ext cx="0" cy="4654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402" name="Line 6"/>
            <p:cNvSpPr/>
            <p:nvPr/>
          </p:nvSpPr>
          <p:spPr>
            <a:xfrm>
              <a:off x="7556400" y="3102120"/>
              <a:ext cx="0" cy="4651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3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NPV with the TI BAII Plus: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62012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elect CF mod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Fo=?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250,000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TER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01=?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00,000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T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01=  1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5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T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05" name="Group 9"/>
          <p:cNvGrpSpPr/>
          <p:nvPr/>
        </p:nvGrpSpPr>
        <p:grpSpPr>
          <a:xfrm>
            <a:off x="7543800" y="2462040"/>
            <a:ext cx="49320" cy="1721160"/>
            <a:chOff x="7543800" y="2462040"/>
            <a:chExt cx="49320" cy="1721160"/>
          </a:xfrm>
        </p:grpSpPr>
        <p:sp>
          <p:nvSpPr>
            <p:cNvPr id="406" name="Line 5"/>
            <p:cNvSpPr/>
            <p:nvPr/>
          </p:nvSpPr>
          <p:spPr>
            <a:xfrm>
              <a:off x="7543800" y="2462040"/>
              <a:ext cx="0" cy="4654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407" name="Line 6"/>
            <p:cNvSpPr/>
            <p:nvPr/>
          </p:nvSpPr>
          <p:spPr>
            <a:xfrm>
              <a:off x="7556400" y="3102120"/>
              <a:ext cx="0" cy="4651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408" name="Line 7"/>
            <p:cNvSpPr/>
            <p:nvPr/>
          </p:nvSpPr>
          <p:spPr>
            <a:xfrm>
              <a:off x="7593120" y="3718080"/>
              <a:ext cx="0" cy="4651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3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NPV with the TI BAII Plus: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62012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elect CF mod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Fo=?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250,000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TER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01=?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00,000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T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01=  1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5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T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PV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=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5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TER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11" name="Group 4"/>
          <p:cNvGrpSpPr/>
          <p:nvPr/>
        </p:nvGrpSpPr>
        <p:grpSpPr>
          <a:xfrm>
            <a:off x="7543800" y="2462040"/>
            <a:ext cx="60480" cy="2338560"/>
            <a:chOff x="7543800" y="2462040"/>
            <a:chExt cx="60480" cy="2338560"/>
          </a:xfrm>
        </p:grpSpPr>
        <p:sp>
          <p:nvSpPr>
            <p:cNvPr id="412" name="Line 5"/>
            <p:cNvSpPr/>
            <p:nvPr/>
          </p:nvSpPr>
          <p:spPr>
            <a:xfrm>
              <a:off x="7543800" y="2462040"/>
              <a:ext cx="0" cy="4651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413" name="Line 6"/>
            <p:cNvSpPr/>
            <p:nvPr/>
          </p:nvSpPr>
          <p:spPr>
            <a:xfrm>
              <a:off x="7556760" y="3101760"/>
              <a:ext cx="0" cy="4651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414" name="Line 7"/>
            <p:cNvSpPr/>
            <p:nvPr/>
          </p:nvSpPr>
          <p:spPr>
            <a:xfrm>
              <a:off x="7593120" y="3717720"/>
              <a:ext cx="0" cy="4651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415" name="Line 8"/>
            <p:cNvSpPr/>
            <p:nvPr/>
          </p:nvSpPr>
          <p:spPr>
            <a:xfrm>
              <a:off x="7604280" y="4335120"/>
              <a:ext cx="0" cy="4654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3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NPV with the TI BAII Plus: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62012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elect CF mod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Fo=?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250,000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TER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01=?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00,000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T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01=  1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5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T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PV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=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5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TER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P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7543800" y="2462040"/>
            <a:ext cx="60480" cy="2338560"/>
            <a:chOff x="7543800" y="2462040"/>
            <a:chExt cx="60480" cy="2338560"/>
          </a:xfrm>
        </p:grpSpPr>
        <p:sp>
          <p:nvSpPr>
            <p:cNvPr id="419" name="Line 5"/>
            <p:cNvSpPr/>
            <p:nvPr/>
          </p:nvSpPr>
          <p:spPr>
            <a:xfrm>
              <a:off x="7543800" y="2462040"/>
              <a:ext cx="0" cy="4651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420" name="Line 6"/>
            <p:cNvSpPr/>
            <p:nvPr/>
          </p:nvSpPr>
          <p:spPr>
            <a:xfrm>
              <a:off x="7556760" y="3101760"/>
              <a:ext cx="0" cy="4651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421" name="Line 7"/>
            <p:cNvSpPr/>
            <p:nvPr/>
          </p:nvSpPr>
          <p:spPr>
            <a:xfrm>
              <a:off x="7593120" y="3717720"/>
              <a:ext cx="0" cy="4651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422" name="Line 8"/>
            <p:cNvSpPr/>
            <p:nvPr/>
          </p:nvSpPr>
          <p:spPr>
            <a:xfrm>
              <a:off x="7604280" y="4335120"/>
              <a:ext cx="0" cy="4654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3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NPV with the TI BAII Plus: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62012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elect CF mod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Fo=?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250,000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TER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01=?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00,000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T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01=  1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5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TE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PV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=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5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TER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P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You should get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PV = 85,215.51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25" name="Group 1028"/>
          <p:cNvGrpSpPr/>
          <p:nvPr/>
        </p:nvGrpSpPr>
        <p:grpSpPr>
          <a:xfrm>
            <a:off x="7543800" y="2462040"/>
            <a:ext cx="60480" cy="2338560"/>
            <a:chOff x="7543800" y="2462040"/>
            <a:chExt cx="60480" cy="2338560"/>
          </a:xfrm>
        </p:grpSpPr>
        <p:sp>
          <p:nvSpPr>
            <p:cNvPr id="426" name="Line 1029"/>
            <p:cNvSpPr/>
            <p:nvPr/>
          </p:nvSpPr>
          <p:spPr>
            <a:xfrm>
              <a:off x="7543800" y="2462040"/>
              <a:ext cx="0" cy="4651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427" name="Line 1030"/>
            <p:cNvSpPr/>
            <p:nvPr/>
          </p:nvSpPr>
          <p:spPr>
            <a:xfrm>
              <a:off x="7556760" y="3101760"/>
              <a:ext cx="0" cy="4651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428" name="Line 1031"/>
            <p:cNvSpPr/>
            <p:nvPr/>
          </p:nvSpPr>
          <p:spPr>
            <a:xfrm>
              <a:off x="7593120" y="3717720"/>
              <a:ext cx="0" cy="4651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429" name="Line 1032"/>
            <p:cNvSpPr/>
            <p:nvPr/>
          </p:nvSpPr>
          <p:spPr>
            <a:xfrm>
              <a:off x="7604280" y="4335120"/>
              <a:ext cx="0" cy="4654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"/>
          <p:cNvSpPr/>
          <p:nvPr/>
        </p:nvSpPr>
        <p:spPr>
          <a:xfrm>
            <a:off x="2971800" y="304920"/>
            <a:ext cx="513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Profitability Index</a:t>
            </a:r>
            <a:endParaRPr b="1" lang="en-US" sz="40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2971800" y="304920"/>
            <a:ext cx="513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Profitability Index</a:t>
            </a:r>
            <a:endParaRPr b="1" lang="en-US" sz="40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432" name="Group 4"/>
          <p:cNvGrpSpPr/>
          <p:nvPr/>
        </p:nvGrpSpPr>
        <p:grpSpPr>
          <a:xfrm>
            <a:off x="685800" y="1295280"/>
            <a:ext cx="7966800" cy="2361960"/>
            <a:chOff x="685800" y="1295280"/>
            <a:chExt cx="7966800" cy="2361960"/>
          </a:xfrm>
        </p:grpSpPr>
        <p:sp>
          <p:nvSpPr>
            <p:cNvPr id="433" name="Rectangle 5"/>
            <p:cNvSpPr/>
            <p:nvPr/>
          </p:nvSpPr>
          <p:spPr>
            <a:xfrm>
              <a:off x="685800" y="1331640"/>
              <a:ext cx="7880400" cy="2325600"/>
            </a:xfrm>
            <a:prstGeom prst="rect">
              <a:avLst/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434" name="Group 6"/>
            <p:cNvGrpSpPr/>
            <p:nvPr/>
          </p:nvGrpSpPr>
          <p:grpSpPr>
            <a:xfrm>
              <a:off x="730080" y="1295280"/>
              <a:ext cx="7922520" cy="2287080"/>
              <a:chOff x="730080" y="1295280"/>
              <a:chExt cx="7922520" cy="2287080"/>
            </a:xfrm>
          </p:grpSpPr>
          <p:sp>
            <p:nvSpPr>
              <p:cNvPr id="435" name="Rectangle 7"/>
              <p:cNvSpPr/>
              <p:nvPr/>
            </p:nvSpPr>
            <p:spPr>
              <a:xfrm>
                <a:off x="730080" y="1942920"/>
                <a:ext cx="7922520" cy="82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cc"/>
                    </a:solidFill>
                    <a:latin typeface="Times New Roman"/>
                  </a:rPr>
                  <a:t>NPV</a:t>
                </a:r>
                <a:r>
                  <a:rPr b="1" lang="en-US" sz="4400" spc="-1" strike="noStrike">
                    <a:solidFill>
                      <a:srgbClr val="ffffcc"/>
                    </a:solidFill>
                    <a:latin typeface="Times New Roman"/>
                  </a:rPr>
                  <a:t>   =                              -   IO  </a:t>
                </a:r>
                <a:endParaRPr b="1" lang="en-US" sz="44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436" name="Rectangle 8"/>
              <p:cNvSpPr/>
              <p:nvPr/>
            </p:nvSpPr>
            <p:spPr>
              <a:xfrm>
                <a:off x="4251960" y="1690560"/>
                <a:ext cx="1747080" cy="14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1" lang="en-US" sz="4400" spc="-1" strike="noStrike">
                    <a:solidFill>
                      <a:srgbClr val="ffffcc"/>
                    </a:solidFill>
                    <a:latin typeface="Times New Roman"/>
                  </a:rPr>
                  <a:t>FCF</a:t>
                </a: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t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cc"/>
                    </a:solidFill>
                    <a:latin typeface="Times New Roman"/>
                  </a:rPr>
                  <a:t>(1 + k)</a:t>
                </a:r>
                <a:endParaRPr b="1" lang="en-US" sz="44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437" name="Rectangle 9"/>
              <p:cNvSpPr/>
              <p:nvPr/>
            </p:nvSpPr>
            <p:spPr>
              <a:xfrm>
                <a:off x="6037200" y="2280960"/>
                <a:ext cx="3373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t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438" name="Line 10"/>
              <p:cNvSpPr/>
              <p:nvPr/>
            </p:nvSpPr>
            <p:spPr>
              <a:xfrm>
                <a:off x="4023000" y="2339640"/>
                <a:ext cx="2278080" cy="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439" name="Rectangle 11"/>
              <p:cNvSpPr/>
              <p:nvPr/>
            </p:nvSpPr>
            <p:spPr>
              <a:xfrm>
                <a:off x="3019320" y="1295280"/>
                <a:ext cx="826560" cy="22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  </a:t>
                </a: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n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t=1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440" name="Rectangle 12"/>
              <p:cNvSpPr/>
              <p:nvPr/>
            </p:nvSpPr>
            <p:spPr>
              <a:xfrm>
                <a:off x="2884680" y="1596600"/>
                <a:ext cx="982080" cy="170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600" spc="-1" strike="noStrike">
                    <a:solidFill>
                      <a:srgbClr val="ffcc66"/>
                    </a:solidFill>
                    <a:latin typeface="Symbol"/>
                  </a:rPr>
                  <a:t></a:t>
                </a:r>
                <a:endParaRPr b="1" lang="en-US" sz="10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</p:grp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2971800" y="304920"/>
            <a:ext cx="513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Profitability Index</a:t>
            </a:r>
            <a:endParaRPr b="1" lang="en-US" sz="40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442" name="Group 23"/>
          <p:cNvGrpSpPr/>
          <p:nvPr/>
        </p:nvGrpSpPr>
        <p:grpSpPr>
          <a:xfrm>
            <a:off x="654120" y="4102200"/>
            <a:ext cx="7958160" cy="2463840"/>
            <a:chOff x="654120" y="4102200"/>
            <a:chExt cx="7958160" cy="2463840"/>
          </a:xfrm>
        </p:grpSpPr>
        <p:grpSp>
          <p:nvGrpSpPr>
            <p:cNvPr id="443" name="Group 13"/>
            <p:cNvGrpSpPr/>
            <p:nvPr/>
          </p:nvGrpSpPr>
          <p:grpSpPr>
            <a:xfrm>
              <a:off x="654120" y="4102200"/>
              <a:ext cx="7958160" cy="2463840"/>
              <a:chOff x="654120" y="4102200"/>
              <a:chExt cx="7958160" cy="2463840"/>
            </a:xfrm>
          </p:grpSpPr>
          <p:sp>
            <p:nvSpPr>
              <p:cNvPr id="444" name="Rectangle 14"/>
              <p:cNvSpPr/>
              <p:nvPr/>
            </p:nvSpPr>
            <p:spPr>
              <a:xfrm>
                <a:off x="654120" y="4102200"/>
                <a:ext cx="7702560" cy="2463840"/>
              </a:xfrm>
              <a:prstGeom prst="rect">
                <a:avLst/>
              </a:prstGeom>
              <a:noFill/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445" name="Rectangle 15"/>
              <p:cNvSpPr/>
              <p:nvPr/>
            </p:nvSpPr>
            <p:spPr>
              <a:xfrm>
                <a:off x="868320" y="4842000"/>
                <a:ext cx="7743960" cy="7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ff"/>
                    </a:solidFill>
                    <a:latin typeface="Times New Roman"/>
                  </a:rPr>
                  <a:t>PI    =                                     IO  </a:t>
                </a:r>
                <a:endParaRPr b="1" lang="en-US" sz="44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446" name="Line 16"/>
              <p:cNvSpPr/>
              <p:nvPr/>
            </p:nvSpPr>
            <p:spPr>
              <a:xfrm>
                <a:off x="4241880" y="5200560"/>
                <a:ext cx="228600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447" name="Rectangle 17"/>
              <p:cNvSpPr/>
              <p:nvPr/>
            </p:nvSpPr>
            <p:spPr>
              <a:xfrm>
                <a:off x="4402800" y="4537080"/>
                <a:ext cx="1747080" cy="14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1" lang="en-US" sz="4400" spc="-1" strike="noStrike">
                    <a:solidFill>
                      <a:srgbClr val="ffffff"/>
                    </a:solidFill>
                    <a:latin typeface="Times New Roman"/>
                  </a:rPr>
                  <a:t>FCF</a:t>
                </a: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ff"/>
                    </a:solidFill>
                    <a:latin typeface="Times New Roman"/>
                  </a:rPr>
                  <a:t>(1 + k)</a:t>
                </a:r>
                <a:endParaRPr b="1" lang="en-US" sz="44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448" name="Rectangle 18"/>
              <p:cNvSpPr/>
              <p:nvPr/>
            </p:nvSpPr>
            <p:spPr>
              <a:xfrm>
                <a:off x="3165120" y="4132440"/>
                <a:ext cx="826560" cy="22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n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t=1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449" name="Line 19"/>
              <p:cNvSpPr/>
              <p:nvPr/>
            </p:nvSpPr>
            <p:spPr>
              <a:xfrm flipH="1">
                <a:off x="6229440" y="4552920"/>
                <a:ext cx="1123920" cy="160020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450" name="Rectangle 20"/>
              <p:cNvSpPr/>
              <p:nvPr/>
            </p:nvSpPr>
            <p:spPr>
              <a:xfrm>
                <a:off x="3018240" y="4441680"/>
                <a:ext cx="982080" cy="170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600" spc="-1" strike="noStrike">
                    <a:solidFill>
                      <a:srgbClr val="ffffff"/>
                    </a:solidFill>
                    <a:latin typeface="Symbol"/>
                  </a:rPr>
                  <a:t></a:t>
                </a:r>
                <a:endParaRPr b="1" lang="en-US" sz="10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sp>
          <p:nvSpPr>
            <p:cNvPr id="451" name="Rectangle 3"/>
            <p:cNvSpPr/>
            <p:nvPr/>
          </p:nvSpPr>
          <p:spPr>
            <a:xfrm>
              <a:off x="6095520" y="5141880"/>
              <a:ext cx="337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452" name="Group 22"/>
          <p:cNvGrpSpPr/>
          <p:nvPr/>
        </p:nvGrpSpPr>
        <p:grpSpPr>
          <a:xfrm>
            <a:off x="685800" y="1295280"/>
            <a:ext cx="7966800" cy="2362320"/>
            <a:chOff x="685800" y="1295280"/>
            <a:chExt cx="7966800" cy="2362320"/>
          </a:xfrm>
        </p:grpSpPr>
        <p:sp>
          <p:nvSpPr>
            <p:cNvPr id="453" name="Rectangle 5"/>
            <p:cNvSpPr/>
            <p:nvPr/>
          </p:nvSpPr>
          <p:spPr>
            <a:xfrm>
              <a:off x="685800" y="1332000"/>
              <a:ext cx="7880400" cy="2325600"/>
            </a:xfrm>
            <a:prstGeom prst="rect">
              <a:avLst/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454" name="Group 21"/>
            <p:cNvGrpSpPr/>
            <p:nvPr/>
          </p:nvGrpSpPr>
          <p:grpSpPr>
            <a:xfrm>
              <a:off x="730080" y="1295280"/>
              <a:ext cx="7922520" cy="2287080"/>
              <a:chOff x="730080" y="1295280"/>
              <a:chExt cx="7922520" cy="2287080"/>
            </a:xfrm>
          </p:grpSpPr>
          <p:sp>
            <p:nvSpPr>
              <p:cNvPr id="455" name="Rectangle 7"/>
              <p:cNvSpPr/>
              <p:nvPr/>
            </p:nvSpPr>
            <p:spPr>
              <a:xfrm>
                <a:off x="730080" y="1943280"/>
                <a:ext cx="7922520" cy="82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cc"/>
                    </a:solidFill>
                    <a:latin typeface="Times New Roman"/>
                  </a:rPr>
                  <a:t>NPV</a:t>
                </a:r>
                <a:r>
                  <a:rPr b="1" lang="en-US" sz="4400" spc="-1" strike="noStrike">
                    <a:solidFill>
                      <a:srgbClr val="ffffcc"/>
                    </a:solidFill>
                    <a:latin typeface="Times New Roman"/>
                  </a:rPr>
                  <a:t>   =                              -   IO  </a:t>
                </a:r>
                <a:endParaRPr b="1" lang="en-US" sz="44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456" name="Rectangle 8"/>
              <p:cNvSpPr/>
              <p:nvPr/>
            </p:nvSpPr>
            <p:spPr>
              <a:xfrm>
                <a:off x="4251960" y="1690560"/>
                <a:ext cx="1747080" cy="14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1" lang="en-US" sz="4400" spc="-1" strike="noStrike">
                    <a:solidFill>
                      <a:srgbClr val="ffffcc"/>
                    </a:solidFill>
                    <a:latin typeface="Times New Roman"/>
                  </a:rPr>
                  <a:t>FCF</a:t>
                </a: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t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cc"/>
                    </a:solidFill>
                    <a:latin typeface="Times New Roman"/>
                  </a:rPr>
                  <a:t>(1 + k)</a:t>
                </a:r>
                <a:endParaRPr b="1" lang="en-US" sz="44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457" name="Rectangle 9"/>
              <p:cNvSpPr/>
              <p:nvPr/>
            </p:nvSpPr>
            <p:spPr>
              <a:xfrm>
                <a:off x="5943240" y="2281320"/>
                <a:ext cx="3373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t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458" name="Line 10"/>
              <p:cNvSpPr/>
              <p:nvPr/>
            </p:nvSpPr>
            <p:spPr>
              <a:xfrm>
                <a:off x="4022640" y="2340000"/>
                <a:ext cx="2278080" cy="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459" name="Rectangle 11"/>
              <p:cNvSpPr/>
              <p:nvPr/>
            </p:nvSpPr>
            <p:spPr>
              <a:xfrm>
                <a:off x="3018960" y="1295280"/>
                <a:ext cx="826560" cy="22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  </a:t>
                </a: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n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t=1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460" name="Rectangle 12"/>
              <p:cNvSpPr/>
              <p:nvPr/>
            </p:nvSpPr>
            <p:spPr>
              <a:xfrm>
                <a:off x="2884680" y="1596960"/>
                <a:ext cx="982080" cy="170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600" spc="-1" strike="noStrike">
                    <a:solidFill>
                      <a:srgbClr val="ffcc66"/>
                    </a:solidFill>
                    <a:latin typeface="Symbol"/>
                  </a:rPr>
                  <a:t></a:t>
                </a:r>
                <a:endParaRPr b="1" lang="en-US" sz="10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</p:grp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1066680" y="1752480"/>
            <a:ext cx="7201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Decision Rule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1" lang="en-US" sz="4000" spc="-1" strike="noStrike">
              <a:solidFill>
                <a:srgbClr val="ffffff"/>
              </a:solidFill>
              <a:latin typeface="Symbol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Symbol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If PI is greater than or equal to 1,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ccept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ffffff"/>
              </a:solidFill>
              <a:latin typeface="Symbol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If PI is less than 1,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ject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2971800" y="304920"/>
            <a:ext cx="49593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Profitability Index</a:t>
            </a:r>
            <a:endParaRPr b="1" lang="en-US" sz="40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971440" y="304560"/>
            <a:ext cx="5334120" cy="103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PI with the HP10B: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42640" y="1552320"/>
            <a:ext cx="6427800" cy="53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-250,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Fj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00,000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Fj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5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ift  Nj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5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/YR   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ift  NPV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dd back IO: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+ 250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Divide by IO: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/  250,000  =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You should get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I = 1.34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4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741060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Ideal Evaluation Method should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a) includ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ll cash flows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that occur during the life of the project,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b) consider th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time value of money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c) incorporate th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quired rate of return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on the project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546960" cy="14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ecision-making Criteria in Capital Budgeting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6946920" cy="10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nternal Rate of Return (IRR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664400" cy="33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IRR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the return on the firm’s invested capital.  IRR is simply th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ate of return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that the firm earns on its capital budgeting project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14996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nternal Rate of Return (IRR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14996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nternal Rate of Return (IRR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469" name="Group 3"/>
          <p:cNvGrpSpPr/>
          <p:nvPr/>
        </p:nvGrpSpPr>
        <p:grpSpPr>
          <a:xfrm>
            <a:off x="914400" y="1523880"/>
            <a:ext cx="7966800" cy="2361960"/>
            <a:chOff x="914400" y="1523880"/>
            <a:chExt cx="7966800" cy="2361960"/>
          </a:xfrm>
        </p:grpSpPr>
        <p:sp>
          <p:nvSpPr>
            <p:cNvPr id="470" name="Rectangle 4"/>
            <p:cNvSpPr/>
            <p:nvPr/>
          </p:nvSpPr>
          <p:spPr>
            <a:xfrm>
              <a:off x="914400" y="1560240"/>
              <a:ext cx="7880400" cy="2325600"/>
            </a:xfrm>
            <a:prstGeom prst="rect">
              <a:avLst/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471" name="Group 5"/>
            <p:cNvGrpSpPr/>
            <p:nvPr/>
          </p:nvGrpSpPr>
          <p:grpSpPr>
            <a:xfrm>
              <a:off x="958680" y="1523880"/>
              <a:ext cx="7922520" cy="2287080"/>
              <a:chOff x="958680" y="1523880"/>
              <a:chExt cx="7922520" cy="2287080"/>
            </a:xfrm>
          </p:grpSpPr>
          <p:sp>
            <p:nvSpPr>
              <p:cNvPr id="472" name="Rectangle 6"/>
              <p:cNvSpPr/>
              <p:nvPr/>
            </p:nvSpPr>
            <p:spPr>
              <a:xfrm>
                <a:off x="958680" y="2171520"/>
                <a:ext cx="7922520" cy="82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cc"/>
                    </a:solidFill>
                    <a:latin typeface="Times New Roman"/>
                  </a:rPr>
                  <a:t>NPV</a:t>
                </a:r>
                <a:r>
                  <a:rPr b="1" lang="en-US" sz="4400" spc="-1" strike="noStrike">
                    <a:solidFill>
                      <a:srgbClr val="ffffcc"/>
                    </a:solidFill>
                    <a:latin typeface="Times New Roman"/>
                  </a:rPr>
                  <a:t>   =                              -   IO  </a:t>
                </a:r>
                <a:endParaRPr b="1" lang="en-US" sz="44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473" name="Rectangle 7"/>
              <p:cNvSpPr/>
              <p:nvPr/>
            </p:nvSpPr>
            <p:spPr>
              <a:xfrm>
                <a:off x="4480560" y="1919160"/>
                <a:ext cx="1747080" cy="14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1" lang="en-US" sz="4400" spc="-1" strike="noStrike">
                    <a:solidFill>
                      <a:srgbClr val="ffffcc"/>
                    </a:solidFill>
                    <a:latin typeface="Times New Roman"/>
                  </a:rPr>
                  <a:t>FCF</a:t>
                </a: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t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cc"/>
                    </a:solidFill>
                    <a:latin typeface="Times New Roman"/>
                  </a:rPr>
                  <a:t>(1 + k)</a:t>
                </a:r>
                <a:endParaRPr b="1" lang="en-US" sz="44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474" name="Rectangle 8"/>
              <p:cNvSpPr/>
              <p:nvPr/>
            </p:nvSpPr>
            <p:spPr>
              <a:xfrm>
                <a:off x="6265800" y="2509560"/>
                <a:ext cx="3373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t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475" name="Line 9"/>
              <p:cNvSpPr/>
              <p:nvPr/>
            </p:nvSpPr>
            <p:spPr>
              <a:xfrm>
                <a:off x="4251600" y="2568240"/>
                <a:ext cx="2278080" cy="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476" name="Rectangle 10"/>
              <p:cNvSpPr/>
              <p:nvPr/>
            </p:nvSpPr>
            <p:spPr>
              <a:xfrm>
                <a:off x="3247920" y="1523880"/>
                <a:ext cx="826560" cy="22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  </a:t>
                </a: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n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t=1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477" name="Rectangle 11"/>
              <p:cNvSpPr/>
              <p:nvPr/>
            </p:nvSpPr>
            <p:spPr>
              <a:xfrm>
                <a:off x="3113280" y="1825200"/>
                <a:ext cx="982080" cy="170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600" spc="-1" strike="noStrike">
                    <a:solidFill>
                      <a:srgbClr val="ffcc66"/>
                    </a:solidFill>
                    <a:latin typeface="Symbol"/>
                  </a:rPr>
                  <a:t></a:t>
                </a:r>
                <a:endParaRPr b="1" lang="en-US" sz="10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</p:grpSp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14996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nternal Rate of Return (IRR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479" name="Group 3"/>
          <p:cNvGrpSpPr/>
          <p:nvPr/>
        </p:nvGrpSpPr>
        <p:grpSpPr>
          <a:xfrm>
            <a:off x="914400" y="1523880"/>
            <a:ext cx="7966800" cy="2361960"/>
            <a:chOff x="914400" y="1523880"/>
            <a:chExt cx="7966800" cy="2361960"/>
          </a:xfrm>
        </p:grpSpPr>
        <p:sp>
          <p:nvSpPr>
            <p:cNvPr id="480" name="Rectangle 4"/>
            <p:cNvSpPr/>
            <p:nvPr/>
          </p:nvSpPr>
          <p:spPr>
            <a:xfrm>
              <a:off x="914400" y="1560240"/>
              <a:ext cx="7880400" cy="2325600"/>
            </a:xfrm>
            <a:prstGeom prst="rect">
              <a:avLst/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481" name="Group 5"/>
            <p:cNvGrpSpPr/>
            <p:nvPr/>
          </p:nvGrpSpPr>
          <p:grpSpPr>
            <a:xfrm>
              <a:off x="958680" y="1523880"/>
              <a:ext cx="7922520" cy="2287080"/>
              <a:chOff x="958680" y="1523880"/>
              <a:chExt cx="7922520" cy="2287080"/>
            </a:xfrm>
          </p:grpSpPr>
          <p:sp>
            <p:nvSpPr>
              <p:cNvPr id="482" name="Rectangle 6"/>
              <p:cNvSpPr/>
              <p:nvPr/>
            </p:nvSpPr>
            <p:spPr>
              <a:xfrm>
                <a:off x="958680" y="2171520"/>
                <a:ext cx="7922520" cy="82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cc"/>
                    </a:solidFill>
                    <a:latin typeface="Times New Roman"/>
                  </a:rPr>
                  <a:t>NPV</a:t>
                </a:r>
                <a:r>
                  <a:rPr b="1" lang="en-US" sz="4400" spc="-1" strike="noStrike">
                    <a:solidFill>
                      <a:srgbClr val="ffffcc"/>
                    </a:solidFill>
                    <a:latin typeface="Times New Roman"/>
                  </a:rPr>
                  <a:t>   =                              -   IO  </a:t>
                </a:r>
                <a:endParaRPr b="1" lang="en-US" sz="44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483" name="Rectangle 7"/>
              <p:cNvSpPr/>
              <p:nvPr/>
            </p:nvSpPr>
            <p:spPr>
              <a:xfrm>
                <a:off x="4480560" y="1919160"/>
                <a:ext cx="1747080" cy="14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1" lang="en-US" sz="4400" spc="-1" strike="noStrike">
                    <a:solidFill>
                      <a:srgbClr val="ffffcc"/>
                    </a:solidFill>
                    <a:latin typeface="Times New Roman"/>
                  </a:rPr>
                  <a:t>FCF</a:t>
                </a: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t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cc"/>
                    </a:solidFill>
                    <a:latin typeface="Times New Roman"/>
                  </a:rPr>
                  <a:t>(1 + k)</a:t>
                </a:r>
                <a:endParaRPr b="1" lang="en-US" sz="44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484" name="Rectangle 8"/>
              <p:cNvSpPr/>
              <p:nvPr/>
            </p:nvSpPr>
            <p:spPr>
              <a:xfrm>
                <a:off x="6265800" y="2509560"/>
                <a:ext cx="3373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t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485" name="Line 9"/>
              <p:cNvSpPr/>
              <p:nvPr/>
            </p:nvSpPr>
            <p:spPr>
              <a:xfrm>
                <a:off x="4251600" y="2568240"/>
                <a:ext cx="2278080" cy="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486" name="Rectangle 10"/>
              <p:cNvSpPr/>
              <p:nvPr/>
            </p:nvSpPr>
            <p:spPr>
              <a:xfrm>
                <a:off x="3247920" y="1523880"/>
                <a:ext cx="826560" cy="22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  </a:t>
                </a: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n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t=1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487" name="Rectangle 11"/>
              <p:cNvSpPr/>
              <p:nvPr/>
            </p:nvSpPr>
            <p:spPr>
              <a:xfrm>
                <a:off x="3113280" y="1825200"/>
                <a:ext cx="982080" cy="170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600" spc="-1" strike="noStrike">
                    <a:solidFill>
                      <a:srgbClr val="ffcc66"/>
                    </a:solidFill>
                    <a:latin typeface="Symbol"/>
                  </a:rPr>
                  <a:t></a:t>
                </a:r>
                <a:endParaRPr b="1" lang="en-US" sz="10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</p:grpSp>
      <p:grpSp>
        <p:nvGrpSpPr>
          <p:cNvPr id="488" name="Group 12"/>
          <p:cNvGrpSpPr/>
          <p:nvPr/>
        </p:nvGrpSpPr>
        <p:grpSpPr>
          <a:xfrm>
            <a:off x="914400" y="4191120"/>
            <a:ext cx="7848720" cy="2333160"/>
            <a:chOff x="914400" y="4191120"/>
            <a:chExt cx="7848720" cy="2333160"/>
          </a:xfrm>
        </p:grpSpPr>
        <p:sp>
          <p:nvSpPr>
            <p:cNvPr id="489" name="Rectangle 13"/>
            <p:cNvSpPr/>
            <p:nvPr/>
          </p:nvSpPr>
          <p:spPr>
            <a:xfrm>
              <a:off x="914400" y="4191120"/>
              <a:ext cx="7848720" cy="230976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490" name="Group 14"/>
            <p:cNvGrpSpPr/>
            <p:nvPr/>
          </p:nvGrpSpPr>
          <p:grpSpPr>
            <a:xfrm>
              <a:off x="1110240" y="4237200"/>
              <a:ext cx="7554960" cy="2287080"/>
              <a:chOff x="1110240" y="4237200"/>
              <a:chExt cx="7554960" cy="2287080"/>
            </a:xfrm>
          </p:grpSpPr>
          <p:sp>
            <p:nvSpPr>
              <p:cNvPr id="491" name="Rectangle 15"/>
              <p:cNvSpPr/>
              <p:nvPr/>
            </p:nvSpPr>
            <p:spPr>
              <a:xfrm>
                <a:off x="2796480" y="4237200"/>
                <a:ext cx="826560" cy="22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n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t=1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492" name="Rectangle 16"/>
              <p:cNvSpPr/>
              <p:nvPr/>
            </p:nvSpPr>
            <p:spPr>
              <a:xfrm>
                <a:off x="2666880" y="4552560"/>
                <a:ext cx="982080" cy="170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600" spc="-1" strike="noStrike">
                    <a:solidFill>
                      <a:srgbClr val="ffffff"/>
                    </a:solidFill>
                    <a:latin typeface="Symbol"/>
                  </a:rPr>
                  <a:t></a:t>
                </a:r>
                <a:endParaRPr b="1" lang="en-US" sz="10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grpSp>
            <p:nvGrpSpPr>
              <p:cNvPr id="493" name="Group 17"/>
              <p:cNvGrpSpPr/>
              <p:nvPr/>
            </p:nvGrpSpPr>
            <p:grpSpPr>
              <a:xfrm>
                <a:off x="1110240" y="4463640"/>
                <a:ext cx="7554960" cy="1433160"/>
                <a:chOff x="1110240" y="4463640"/>
                <a:chExt cx="7554960" cy="1433160"/>
              </a:xfrm>
            </p:grpSpPr>
            <p:sp>
              <p:nvSpPr>
                <p:cNvPr id="494" name="Rectangle 18"/>
                <p:cNvSpPr/>
                <p:nvPr/>
              </p:nvSpPr>
              <p:spPr>
                <a:xfrm>
                  <a:off x="1110240" y="4787280"/>
                  <a:ext cx="7554960" cy="76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ffffff"/>
                      </a:solidFill>
                      <a:latin typeface="Times New Roman"/>
                    </a:rPr>
                    <a:t>IRR:                                =   IO  </a:t>
                  </a:r>
                  <a:endParaRPr b="1" lang="en-US" sz="44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95" name="Rectangle 19"/>
                <p:cNvSpPr/>
                <p:nvPr/>
              </p:nvSpPr>
              <p:spPr>
                <a:xfrm>
                  <a:off x="3728160" y="4463640"/>
                  <a:ext cx="2462040" cy="14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ffffff"/>
                      </a:solidFill>
                      <a:latin typeface="Times New Roman"/>
                    </a:rPr>
                    <a:t>   </a:t>
                  </a:r>
                  <a:r>
                    <a:rPr b="1" lang="en-US" sz="4400" spc="-1" strike="noStrike">
                      <a:solidFill>
                        <a:srgbClr val="ffffff"/>
                      </a:solidFill>
                      <a:latin typeface="Times New Roman"/>
                    </a:rPr>
                    <a:t>FCF</a:t>
                  </a:r>
                  <a:r>
                    <a:rPr b="1" lang="en-US" sz="3600" spc="-1" strike="noStrike">
                      <a:solidFill>
                        <a:srgbClr val="ffffff"/>
                      </a:solidFill>
                      <a:latin typeface="Times New Roman"/>
                    </a:rPr>
                    <a:t>t</a:t>
                  </a:r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ffffff"/>
                      </a:solidFill>
                      <a:latin typeface="Times New Roman"/>
                    </a:rPr>
                    <a:t>(1 + IRR)</a:t>
                  </a:r>
                  <a:endParaRPr b="1" lang="en-US" sz="44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96" name="Rectangle 20"/>
                <p:cNvSpPr/>
                <p:nvPr/>
              </p:nvSpPr>
              <p:spPr>
                <a:xfrm>
                  <a:off x="6073200" y="5030280"/>
                  <a:ext cx="33732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ffffff"/>
                      </a:solidFill>
                      <a:latin typeface="Times New Roman"/>
                    </a:rPr>
                    <a:t>t</a:t>
                  </a:r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97" name="Line 21"/>
                <p:cNvSpPr/>
                <p:nvPr/>
              </p:nvSpPr>
              <p:spPr>
                <a:xfrm>
                  <a:off x="3917880" y="5146200"/>
                  <a:ext cx="2286000" cy="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714996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nternal Rate of Return (IRR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09120" y="4088880"/>
            <a:ext cx="8077320" cy="276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RR is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ate of return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that makes th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V of the cash flows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equal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to the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itial outlay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his looks very similar to our Yield to Maturity formula for bonds.  In fact, YTM </a:t>
            </a:r>
            <a:r>
              <a:rPr b="1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is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the IRR of a bon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00" name="Group 14"/>
          <p:cNvGrpSpPr/>
          <p:nvPr/>
        </p:nvGrpSpPr>
        <p:grpSpPr>
          <a:xfrm>
            <a:off x="914400" y="1523880"/>
            <a:ext cx="7848720" cy="2333160"/>
            <a:chOff x="914400" y="1523880"/>
            <a:chExt cx="7848720" cy="2333160"/>
          </a:xfrm>
        </p:grpSpPr>
        <p:sp>
          <p:nvSpPr>
            <p:cNvPr id="501" name="Rectangle 5"/>
            <p:cNvSpPr/>
            <p:nvPr/>
          </p:nvSpPr>
          <p:spPr>
            <a:xfrm>
              <a:off x="914400" y="1523880"/>
              <a:ext cx="7848720" cy="230976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502" name="Group 6"/>
            <p:cNvGrpSpPr/>
            <p:nvPr/>
          </p:nvGrpSpPr>
          <p:grpSpPr>
            <a:xfrm>
              <a:off x="1110600" y="1569960"/>
              <a:ext cx="7554960" cy="2287080"/>
              <a:chOff x="1110600" y="1569960"/>
              <a:chExt cx="7554960" cy="2287080"/>
            </a:xfrm>
          </p:grpSpPr>
          <p:sp>
            <p:nvSpPr>
              <p:cNvPr id="503" name="Rectangle 7"/>
              <p:cNvSpPr/>
              <p:nvPr/>
            </p:nvSpPr>
            <p:spPr>
              <a:xfrm>
                <a:off x="2796840" y="1569960"/>
                <a:ext cx="826560" cy="22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n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t=1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504" name="Rectangle 8"/>
              <p:cNvSpPr/>
              <p:nvPr/>
            </p:nvSpPr>
            <p:spPr>
              <a:xfrm>
                <a:off x="2667240" y="1886040"/>
                <a:ext cx="982080" cy="170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600" spc="-1" strike="noStrike">
                    <a:solidFill>
                      <a:srgbClr val="ffffff"/>
                    </a:solidFill>
                    <a:latin typeface="Symbol"/>
                  </a:rPr>
                  <a:t></a:t>
                </a:r>
                <a:endParaRPr b="1" lang="en-US" sz="10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grpSp>
            <p:nvGrpSpPr>
              <p:cNvPr id="505" name="Group 9"/>
              <p:cNvGrpSpPr/>
              <p:nvPr/>
            </p:nvGrpSpPr>
            <p:grpSpPr>
              <a:xfrm>
                <a:off x="1110600" y="1797120"/>
                <a:ext cx="7554960" cy="1433160"/>
                <a:chOff x="1110600" y="1797120"/>
                <a:chExt cx="7554960" cy="1433160"/>
              </a:xfrm>
            </p:grpSpPr>
            <p:sp>
              <p:nvSpPr>
                <p:cNvPr id="506" name="Rectangle 10"/>
                <p:cNvSpPr/>
                <p:nvPr/>
              </p:nvSpPr>
              <p:spPr>
                <a:xfrm>
                  <a:off x="1110600" y="2120760"/>
                  <a:ext cx="7554960" cy="76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ffffff"/>
                      </a:solidFill>
                      <a:latin typeface="Times New Roman"/>
                    </a:rPr>
                    <a:t>IRR:                                =   IO  </a:t>
                  </a:r>
                  <a:endParaRPr b="1" lang="en-US" sz="44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07" name="Rectangle 11"/>
                <p:cNvSpPr/>
                <p:nvPr/>
              </p:nvSpPr>
              <p:spPr>
                <a:xfrm>
                  <a:off x="3728520" y="1797120"/>
                  <a:ext cx="2462040" cy="143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ffffff"/>
                      </a:solidFill>
                      <a:latin typeface="Times New Roman"/>
                    </a:rPr>
                    <a:t>   </a:t>
                  </a:r>
                  <a:r>
                    <a:rPr b="1" lang="en-US" sz="4400" spc="-1" strike="noStrike">
                      <a:solidFill>
                        <a:srgbClr val="ffffff"/>
                      </a:solidFill>
                      <a:latin typeface="Times New Roman"/>
                    </a:rPr>
                    <a:t>FCF</a:t>
                  </a:r>
                  <a:r>
                    <a:rPr b="1" lang="en-US" sz="3600" spc="-1" strike="noStrike">
                      <a:solidFill>
                        <a:srgbClr val="ffffff"/>
                      </a:solidFill>
                      <a:latin typeface="Times New Roman"/>
                    </a:rPr>
                    <a:t>t</a:t>
                  </a:r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ffffff"/>
                      </a:solidFill>
                      <a:latin typeface="Times New Roman"/>
                    </a:rPr>
                    <a:t>(1 + IRR)</a:t>
                  </a:r>
                  <a:endParaRPr b="1" lang="en-US" sz="44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08" name="Rectangle 12"/>
                <p:cNvSpPr/>
                <p:nvPr/>
              </p:nvSpPr>
              <p:spPr>
                <a:xfrm>
                  <a:off x="6073560" y="2363760"/>
                  <a:ext cx="33732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ffffff"/>
                      </a:solidFill>
                      <a:latin typeface="Times New Roman"/>
                    </a:rPr>
                    <a:t>t</a:t>
                  </a:r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09" name="Line 13"/>
                <p:cNvSpPr/>
                <p:nvPr/>
              </p:nvSpPr>
              <p:spPr>
                <a:xfrm>
                  <a:off x="3918240" y="2479680"/>
                  <a:ext cx="2286000" cy="0"/>
                </a:xfrm>
                <a:prstGeom prst="line">
                  <a:avLst/>
                </a:prstGeom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</p:spTree>
  </p:cSld>
  <p:transition>
    <p:wipe dir="u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895120" y="304920"/>
            <a:ext cx="5278680" cy="73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alculating IRR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734240" cy="25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Looking again at our problem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he IRR is the discount rate that makes the PV of the projected cash flows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equal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to the initial outlay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12" name="Group 21"/>
          <p:cNvGrpSpPr/>
          <p:nvPr/>
        </p:nvGrpSpPr>
        <p:grpSpPr>
          <a:xfrm>
            <a:off x="6120" y="5029200"/>
            <a:ext cx="8963280" cy="1560240"/>
            <a:chOff x="6120" y="5029200"/>
            <a:chExt cx="8963280" cy="1560240"/>
          </a:xfrm>
        </p:grpSpPr>
        <p:sp>
          <p:nvSpPr>
            <p:cNvPr id="513" name="Line 22"/>
            <p:cNvSpPr/>
            <p:nvPr/>
          </p:nvSpPr>
          <p:spPr>
            <a:xfrm>
              <a:off x="701640" y="5789520"/>
              <a:ext cx="742320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514" name="Line 23"/>
            <p:cNvSpPr/>
            <p:nvPr/>
          </p:nvSpPr>
          <p:spPr>
            <a:xfrm>
              <a:off x="8162640" y="5573520"/>
              <a:ext cx="0" cy="3999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515" name="Line 24"/>
            <p:cNvSpPr/>
            <p:nvPr/>
          </p:nvSpPr>
          <p:spPr>
            <a:xfrm>
              <a:off x="2219040" y="5560920"/>
              <a:ext cx="0" cy="4190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516" name="Line 25"/>
            <p:cNvSpPr/>
            <p:nvPr/>
          </p:nvSpPr>
          <p:spPr>
            <a:xfrm>
              <a:off x="701640" y="5560920"/>
              <a:ext cx="0" cy="4190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517" name="Line 26"/>
            <p:cNvSpPr/>
            <p:nvPr/>
          </p:nvSpPr>
          <p:spPr>
            <a:xfrm>
              <a:off x="3692520" y="5580000"/>
              <a:ext cx="0" cy="4190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518" name="Line 27"/>
            <p:cNvSpPr/>
            <p:nvPr/>
          </p:nvSpPr>
          <p:spPr>
            <a:xfrm>
              <a:off x="5190840" y="5580000"/>
              <a:ext cx="0" cy="4190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519" name="Line 28"/>
            <p:cNvSpPr/>
            <p:nvPr/>
          </p:nvSpPr>
          <p:spPr>
            <a:xfrm>
              <a:off x="6638760" y="5560920"/>
              <a:ext cx="0" cy="4381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520" name="Rectangle 29"/>
            <p:cNvSpPr/>
            <p:nvPr/>
          </p:nvSpPr>
          <p:spPr>
            <a:xfrm>
              <a:off x="494640" y="5948280"/>
              <a:ext cx="7843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0           1           2           3           4           5</a:t>
              </a:r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521" name="Rectangle 30"/>
            <p:cNvSpPr/>
            <p:nvPr/>
          </p:nvSpPr>
          <p:spPr>
            <a:xfrm>
              <a:off x="6120" y="5029200"/>
              <a:ext cx="8963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(250,000)   100,000   100,000    100,000    100,000    100,000</a:t>
              </a:r>
              <a:endParaRPr b="1" lang="en-US" sz="2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</p:spTree>
  </p:cSld>
  <p:transition>
    <p:pull dir="u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0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5" dur="50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057040" y="304920"/>
            <a:ext cx="617868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RR with your Calculator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RR is easy to find with your financial calculator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Just enter the cash flows as you did with the NPV problem and solve for IRR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You should get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RR = 28.65%!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562720" y="304560"/>
            <a:ext cx="213336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66"/>
                </a:solidFill>
                <a:latin typeface="Times New Roman"/>
              </a:rPr>
              <a:t>IRR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144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Decision Rule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If IRR is greater than or equal to the required rate of return,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ccept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If IRR is less than the required rate of return,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ject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914400" y="304920"/>
            <a:ext cx="802008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RR is a good decision-making tool as long as cash flows are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conventional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.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- + + + + +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Problem: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If there are multiple sign changes in the cash flow stream, we could get multiple IRRs.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- + + - + +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914400" y="304920"/>
            <a:ext cx="802008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RR is a good decision-making tool as long as cash flows are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conventional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.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- + + + + +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Problem: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If there are multiple sign changes in the cash flow stream, we could get multiple IRRs.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- + + - + +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28" name="Group 3"/>
          <p:cNvGrpSpPr/>
          <p:nvPr/>
        </p:nvGrpSpPr>
        <p:grpSpPr>
          <a:xfrm>
            <a:off x="533160" y="4876920"/>
            <a:ext cx="8338320" cy="1636560"/>
            <a:chOff x="533160" y="4876920"/>
            <a:chExt cx="8338320" cy="1636560"/>
          </a:xfrm>
        </p:grpSpPr>
        <p:sp>
          <p:nvSpPr>
            <p:cNvPr id="529" name="Line 4"/>
            <p:cNvSpPr/>
            <p:nvPr/>
          </p:nvSpPr>
          <p:spPr>
            <a:xfrm>
              <a:off x="1092600" y="5713560"/>
              <a:ext cx="742284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530" name="Line 5"/>
            <p:cNvSpPr/>
            <p:nvPr/>
          </p:nvSpPr>
          <p:spPr>
            <a:xfrm>
              <a:off x="8553600" y="5497560"/>
              <a:ext cx="0" cy="3999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531" name="Line 6"/>
            <p:cNvSpPr/>
            <p:nvPr/>
          </p:nvSpPr>
          <p:spPr>
            <a:xfrm>
              <a:off x="2610000" y="5484960"/>
              <a:ext cx="0" cy="4190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532" name="Line 7"/>
            <p:cNvSpPr/>
            <p:nvPr/>
          </p:nvSpPr>
          <p:spPr>
            <a:xfrm>
              <a:off x="1092600" y="5484960"/>
              <a:ext cx="0" cy="4190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533" name="Line 8"/>
            <p:cNvSpPr/>
            <p:nvPr/>
          </p:nvSpPr>
          <p:spPr>
            <a:xfrm>
              <a:off x="4083120" y="5504040"/>
              <a:ext cx="0" cy="4190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534" name="Line 9"/>
            <p:cNvSpPr/>
            <p:nvPr/>
          </p:nvSpPr>
          <p:spPr>
            <a:xfrm>
              <a:off x="5581800" y="5504040"/>
              <a:ext cx="0" cy="4190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535" name="Line 10"/>
            <p:cNvSpPr/>
            <p:nvPr/>
          </p:nvSpPr>
          <p:spPr>
            <a:xfrm>
              <a:off x="7029720" y="5484960"/>
              <a:ext cx="0" cy="4381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536" name="Rectangle 11"/>
            <p:cNvSpPr/>
            <p:nvPr/>
          </p:nvSpPr>
          <p:spPr>
            <a:xfrm>
              <a:off x="885600" y="5872320"/>
              <a:ext cx="7843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0           1           2           3           4           5</a:t>
              </a:r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537" name="Rectangle 12"/>
            <p:cNvSpPr/>
            <p:nvPr/>
          </p:nvSpPr>
          <p:spPr>
            <a:xfrm>
              <a:off x="533160" y="4876920"/>
              <a:ext cx="8338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(500)      200      100      (200)     400       300</a:t>
              </a:r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00400" y="304920"/>
            <a:ext cx="4578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Payback Period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77000" cy="169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How long will it take for the project to generate enough cash to pay for itself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914400" y="304920"/>
            <a:ext cx="802008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RR is a good decision-making tool as long as cash flows are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conventional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.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- + + + + +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Problem: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If there are multiple sign changes in the cash flow stream, we could get multiple IRRs.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- + + - + +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39" name="Group 3"/>
          <p:cNvGrpSpPr/>
          <p:nvPr/>
        </p:nvGrpSpPr>
        <p:grpSpPr>
          <a:xfrm>
            <a:off x="533160" y="4038480"/>
            <a:ext cx="8338320" cy="2475000"/>
            <a:chOff x="533160" y="4038480"/>
            <a:chExt cx="8338320" cy="2475000"/>
          </a:xfrm>
        </p:grpSpPr>
        <p:grpSp>
          <p:nvGrpSpPr>
            <p:cNvPr id="540" name="Group 4"/>
            <p:cNvGrpSpPr/>
            <p:nvPr/>
          </p:nvGrpSpPr>
          <p:grpSpPr>
            <a:xfrm>
              <a:off x="533160" y="4876920"/>
              <a:ext cx="8338320" cy="1636560"/>
              <a:chOff x="533160" y="4876920"/>
              <a:chExt cx="8338320" cy="1636560"/>
            </a:xfrm>
          </p:grpSpPr>
          <p:sp>
            <p:nvSpPr>
              <p:cNvPr id="541" name="Line 5"/>
              <p:cNvSpPr/>
              <p:nvPr/>
            </p:nvSpPr>
            <p:spPr>
              <a:xfrm>
                <a:off x="1092600" y="5713560"/>
                <a:ext cx="742284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542" name="Line 6"/>
              <p:cNvSpPr/>
              <p:nvPr/>
            </p:nvSpPr>
            <p:spPr>
              <a:xfrm>
                <a:off x="8553600" y="5497560"/>
                <a:ext cx="0" cy="39996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543" name="Line 7"/>
              <p:cNvSpPr/>
              <p:nvPr/>
            </p:nvSpPr>
            <p:spPr>
              <a:xfrm>
                <a:off x="2610000" y="5484960"/>
                <a:ext cx="0" cy="4190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544" name="Line 8"/>
              <p:cNvSpPr/>
              <p:nvPr/>
            </p:nvSpPr>
            <p:spPr>
              <a:xfrm>
                <a:off x="1092600" y="5484960"/>
                <a:ext cx="0" cy="4190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545" name="Line 9"/>
              <p:cNvSpPr/>
              <p:nvPr/>
            </p:nvSpPr>
            <p:spPr>
              <a:xfrm>
                <a:off x="4083120" y="5504040"/>
                <a:ext cx="0" cy="4190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546" name="Line 10"/>
              <p:cNvSpPr/>
              <p:nvPr/>
            </p:nvSpPr>
            <p:spPr>
              <a:xfrm>
                <a:off x="5581800" y="5504040"/>
                <a:ext cx="0" cy="4190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547" name="Line 11"/>
              <p:cNvSpPr/>
              <p:nvPr/>
            </p:nvSpPr>
            <p:spPr>
              <a:xfrm>
                <a:off x="7029720" y="5484960"/>
                <a:ext cx="0" cy="4381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548" name="Rectangle 12"/>
              <p:cNvSpPr/>
              <p:nvPr/>
            </p:nvSpPr>
            <p:spPr>
              <a:xfrm>
                <a:off x="885600" y="5872320"/>
                <a:ext cx="78433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0           1           2           3           4           5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549" name="Rectangle 13"/>
              <p:cNvSpPr/>
              <p:nvPr/>
            </p:nvSpPr>
            <p:spPr>
              <a:xfrm>
                <a:off x="533160" y="4876920"/>
                <a:ext cx="83383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(500)      200      100      (200)     400       300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grpSp>
          <p:nvGrpSpPr>
            <p:cNvPr id="550" name="Group 14"/>
            <p:cNvGrpSpPr/>
            <p:nvPr/>
          </p:nvGrpSpPr>
          <p:grpSpPr>
            <a:xfrm>
              <a:off x="1219320" y="4038480"/>
              <a:ext cx="1295280" cy="990720"/>
              <a:chOff x="1219320" y="4038480"/>
              <a:chExt cx="1295280" cy="990720"/>
            </a:xfrm>
          </p:grpSpPr>
          <p:sp>
            <p:nvSpPr>
              <p:cNvPr id="551" name="Oval 15"/>
              <p:cNvSpPr/>
              <p:nvPr/>
            </p:nvSpPr>
            <p:spPr>
              <a:xfrm>
                <a:off x="1587600" y="4038480"/>
                <a:ext cx="520560" cy="5968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552" name="AutoShape 16"/>
              <p:cNvSpPr/>
              <p:nvPr/>
            </p:nvSpPr>
            <p:spPr>
              <a:xfrm rot="5400000">
                <a:off x="1676520" y="4191120"/>
                <a:ext cx="380880" cy="1295280"/>
              </a:xfrm>
              <a:custGeom>
                <a:avLst/>
                <a:gdLst>
                  <a:gd name="textAreaLeft" fmla="*/ 243360 w 380880"/>
                  <a:gd name="textAreaRight" fmla="*/ 381240 w 380880"/>
                  <a:gd name="textAreaTop" fmla="*/ 33480 h 1295280"/>
                  <a:gd name="textAreaBottom" fmla="*/ 126180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26"/>
                    </a:lnTo>
                    <a:cubicBezTo>
                      <a:pt x="10800" y="9926"/>
                      <a:pt x="5400" y="10826"/>
                      <a:pt x="0" y="10826"/>
                    </a:cubicBezTo>
                    <a:cubicBezTo>
                      <a:pt x="5400" y="10826"/>
                      <a:pt x="10800" y="11726"/>
                      <a:pt x="10800" y="12626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</p:grpSp>
      <p:sp>
        <p:nvSpPr>
          <p:cNvPr id="553" name="Rectangle 17"/>
          <p:cNvSpPr/>
          <p:nvPr/>
        </p:nvSpPr>
        <p:spPr>
          <a:xfrm>
            <a:off x="1644120" y="4038480"/>
            <a:ext cx="2242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                </a:t>
            </a:r>
            <a:endParaRPr b="1" lang="en-US" sz="36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  <p:transition>
    <p:checker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/>
          </p:nvPr>
        </p:nvSpPr>
        <p:spPr>
          <a:xfrm>
            <a:off x="914400" y="304920"/>
            <a:ext cx="802008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RR is a good decision-making tool as long as cash flows are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conventional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.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- + + + + +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Problem: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If there are multiple sign changes in the cash flow stream, we could get multiple IRRs.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- + + - + +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55" name="Group 24"/>
          <p:cNvGrpSpPr/>
          <p:nvPr/>
        </p:nvGrpSpPr>
        <p:grpSpPr>
          <a:xfrm>
            <a:off x="533160" y="4038480"/>
            <a:ext cx="8338320" cy="2475000"/>
            <a:chOff x="533160" y="4038480"/>
            <a:chExt cx="8338320" cy="2475000"/>
          </a:xfrm>
        </p:grpSpPr>
        <p:grpSp>
          <p:nvGrpSpPr>
            <p:cNvPr id="556" name="Group 3"/>
            <p:cNvGrpSpPr/>
            <p:nvPr/>
          </p:nvGrpSpPr>
          <p:grpSpPr>
            <a:xfrm>
              <a:off x="533160" y="4876920"/>
              <a:ext cx="8338320" cy="1636560"/>
              <a:chOff x="533160" y="4876920"/>
              <a:chExt cx="8338320" cy="1636560"/>
            </a:xfrm>
          </p:grpSpPr>
          <p:sp>
            <p:nvSpPr>
              <p:cNvPr id="557" name="Line 4"/>
              <p:cNvSpPr/>
              <p:nvPr/>
            </p:nvSpPr>
            <p:spPr>
              <a:xfrm>
                <a:off x="1092600" y="5713560"/>
                <a:ext cx="742284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558" name="Line 5"/>
              <p:cNvSpPr/>
              <p:nvPr/>
            </p:nvSpPr>
            <p:spPr>
              <a:xfrm>
                <a:off x="8553600" y="5497560"/>
                <a:ext cx="0" cy="39996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559" name="Line 6"/>
              <p:cNvSpPr/>
              <p:nvPr/>
            </p:nvSpPr>
            <p:spPr>
              <a:xfrm>
                <a:off x="2610000" y="5484960"/>
                <a:ext cx="0" cy="4190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560" name="Line 7"/>
              <p:cNvSpPr/>
              <p:nvPr/>
            </p:nvSpPr>
            <p:spPr>
              <a:xfrm>
                <a:off x="1092600" y="5484960"/>
                <a:ext cx="0" cy="4190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561" name="Line 8"/>
              <p:cNvSpPr/>
              <p:nvPr/>
            </p:nvSpPr>
            <p:spPr>
              <a:xfrm>
                <a:off x="4083120" y="5504040"/>
                <a:ext cx="0" cy="4190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562" name="Line 9"/>
              <p:cNvSpPr/>
              <p:nvPr/>
            </p:nvSpPr>
            <p:spPr>
              <a:xfrm>
                <a:off x="5581800" y="5504040"/>
                <a:ext cx="0" cy="4190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563" name="Line 10"/>
              <p:cNvSpPr/>
              <p:nvPr/>
            </p:nvSpPr>
            <p:spPr>
              <a:xfrm>
                <a:off x="7029720" y="5484960"/>
                <a:ext cx="0" cy="4381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564" name="Rectangle 11"/>
              <p:cNvSpPr/>
              <p:nvPr/>
            </p:nvSpPr>
            <p:spPr>
              <a:xfrm>
                <a:off x="885600" y="5872320"/>
                <a:ext cx="78433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0           1           2           3           4           5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565" name="Rectangle 12"/>
              <p:cNvSpPr/>
              <p:nvPr/>
            </p:nvSpPr>
            <p:spPr>
              <a:xfrm>
                <a:off x="533160" y="4876920"/>
                <a:ext cx="83383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(500)      200      100      (200)     400       300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grpSp>
          <p:nvGrpSpPr>
            <p:cNvPr id="566" name="Group 23"/>
            <p:cNvGrpSpPr/>
            <p:nvPr/>
          </p:nvGrpSpPr>
          <p:grpSpPr>
            <a:xfrm>
              <a:off x="1219320" y="4038480"/>
              <a:ext cx="4953240" cy="990720"/>
              <a:chOff x="1219320" y="4038480"/>
              <a:chExt cx="4953240" cy="990720"/>
            </a:xfrm>
          </p:grpSpPr>
          <p:grpSp>
            <p:nvGrpSpPr>
              <p:cNvPr id="567" name="Group 22"/>
              <p:cNvGrpSpPr/>
              <p:nvPr/>
            </p:nvGrpSpPr>
            <p:grpSpPr>
              <a:xfrm>
                <a:off x="1219320" y="4038480"/>
                <a:ext cx="4190760" cy="990720"/>
                <a:chOff x="1219320" y="4038480"/>
                <a:chExt cx="4190760" cy="990720"/>
              </a:xfrm>
            </p:grpSpPr>
            <p:sp>
              <p:nvSpPr>
                <p:cNvPr id="568" name="Oval 15"/>
                <p:cNvSpPr/>
                <p:nvPr/>
              </p:nvSpPr>
              <p:spPr>
                <a:xfrm>
                  <a:off x="4495680" y="4038480"/>
                  <a:ext cx="520920" cy="5968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69" name="Oval 17"/>
                <p:cNvSpPr/>
                <p:nvPr/>
              </p:nvSpPr>
              <p:spPr>
                <a:xfrm>
                  <a:off x="1587600" y="4038480"/>
                  <a:ext cx="520560" cy="5968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70" name="AutoShape 18"/>
                <p:cNvSpPr/>
                <p:nvPr/>
              </p:nvSpPr>
              <p:spPr>
                <a:xfrm rot="5400000">
                  <a:off x="1676520" y="4191120"/>
                  <a:ext cx="380880" cy="1295280"/>
                </a:xfrm>
                <a:custGeom>
                  <a:avLst/>
                  <a:gdLst>
                    <a:gd name="textAreaLeft" fmla="*/ 243360 w 380880"/>
                    <a:gd name="textAreaRight" fmla="*/ 381240 w 380880"/>
                    <a:gd name="textAreaTop" fmla="*/ 33480 h 1295280"/>
                    <a:gd name="textAreaBottom" fmla="*/ 1261800 h 1295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26"/>
                      </a:lnTo>
                      <a:cubicBezTo>
                        <a:pt x="10800" y="9926"/>
                        <a:pt x="5400" y="10826"/>
                        <a:pt x="0" y="10826"/>
                      </a:cubicBezTo>
                      <a:cubicBezTo>
                        <a:pt x="5400" y="10826"/>
                        <a:pt x="10800" y="11726"/>
                        <a:pt x="10800" y="12626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7632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71" name="AutoShape 20"/>
                <p:cNvSpPr/>
                <p:nvPr/>
              </p:nvSpPr>
              <p:spPr>
                <a:xfrm rot="5400000">
                  <a:off x="4572000" y="4191120"/>
                  <a:ext cx="380880" cy="1295280"/>
                </a:xfrm>
                <a:custGeom>
                  <a:avLst/>
                  <a:gdLst>
                    <a:gd name="textAreaLeft" fmla="*/ 243360 w 380880"/>
                    <a:gd name="textAreaRight" fmla="*/ 381240 w 380880"/>
                    <a:gd name="textAreaTop" fmla="*/ 33480 h 1295280"/>
                    <a:gd name="textAreaBottom" fmla="*/ 1261800 h 1295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26"/>
                      </a:lnTo>
                      <a:cubicBezTo>
                        <a:pt x="10800" y="9926"/>
                        <a:pt x="5400" y="10826"/>
                        <a:pt x="0" y="10826"/>
                      </a:cubicBezTo>
                      <a:cubicBezTo>
                        <a:pt x="5400" y="10826"/>
                        <a:pt x="10800" y="11726"/>
                        <a:pt x="10800" y="12626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7632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sp>
            <p:nvSpPr>
              <p:cNvPr id="572" name="Rectangle 21"/>
              <p:cNvSpPr/>
              <p:nvPr/>
            </p:nvSpPr>
            <p:spPr>
              <a:xfrm>
                <a:off x="1644120" y="4038480"/>
                <a:ext cx="45284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1                       2           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</p:grpSp>
    </p:spTree>
  </p:cSld>
  <p:transition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914400" y="304920"/>
            <a:ext cx="802008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RR is a good decision-making tool as long as cash flows are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conventional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.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- + + + + +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Problem: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If there are multiple sign changes in the cash flow stream, we could get multiple IRRs.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- + + - + +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74" name="Group 22"/>
          <p:cNvGrpSpPr/>
          <p:nvPr/>
        </p:nvGrpSpPr>
        <p:grpSpPr>
          <a:xfrm>
            <a:off x="533160" y="4038480"/>
            <a:ext cx="8338320" cy="2475000"/>
            <a:chOff x="533160" y="4038480"/>
            <a:chExt cx="8338320" cy="2475000"/>
          </a:xfrm>
        </p:grpSpPr>
        <p:grpSp>
          <p:nvGrpSpPr>
            <p:cNvPr id="575" name="Group 3"/>
            <p:cNvGrpSpPr/>
            <p:nvPr/>
          </p:nvGrpSpPr>
          <p:grpSpPr>
            <a:xfrm>
              <a:off x="533160" y="4876920"/>
              <a:ext cx="8338320" cy="1636560"/>
              <a:chOff x="533160" y="4876920"/>
              <a:chExt cx="8338320" cy="1636560"/>
            </a:xfrm>
          </p:grpSpPr>
          <p:sp>
            <p:nvSpPr>
              <p:cNvPr id="576" name="Line 4"/>
              <p:cNvSpPr/>
              <p:nvPr/>
            </p:nvSpPr>
            <p:spPr>
              <a:xfrm>
                <a:off x="1092600" y="5713560"/>
                <a:ext cx="742284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577" name="Line 5"/>
              <p:cNvSpPr/>
              <p:nvPr/>
            </p:nvSpPr>
            <p:spPr>
              <a:xfrm>
                <a:off x="8553600" y="5497560"/>
                <a:ext cx="0" cy="39996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578" name="Line 6"/>
              <p:cNvSpPr/>
              <p:nvPr/>
            </p:nvSpPr>
            <p:spPr>
              <a:xfrm>
                <a:off x="2610000" y="5484960"/>
                <a:ext cx="0" cy="4190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579" name="Line 7"/>
              <p:cNvSpPr/>
              <p:nvPr/>
            </p:nvSpPr>
            <p:spPr>
              <a:xfrm>
                <a:off x="1092600" y="5484960"/>
                <a:ext cx="0" cy="4190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580" name="Line 8"/>
              <p:cNvSpPr/>
              <p:nvPr/>
            </p:nvSpPr>
            <p:spPr>
              <a:xfrm>
                <a:off x="4083120" y="5504040"/>
                <a:ext cx="0" cy="4190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581" name="Line 9"/>
              <p:cNvSpPr/>
              <p:nvPr/>
            </p:nvSpPr>
            <p:spPr>
              <a:xfrm>
                <a:off x="5581800" y="5504040"/>
                <a:ext cx="0" cy="4190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582" name="Line 10"/>
              <p:cNvSpPr/>
              <p:nvPr/>
            </p:nvSpPr>
            <p:spPr>
              <a:xfrm>
                <a:off x="7029720" y="5484960"/>
                <a:ext cx="0" cy="4381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583" name="Rectangle 11"/>
              <p:cNvSpPr/>
              <p:nvPr/>
            </p:nvSpPr>
            <p:spPr>
              <a:xfrm>
                <a:off x="885600" y="5872320"/>
                <a:ext cx="78433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0           1           2           3           4           5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584" name="Rectangle 12"/>
              <p:cNvSpPr/>
              <p:nvPr/>
            </p:nvSpPr>
            <p:spPr>
              <a:xfrm>
                <a:off x="533160" y="4876920"/>
                <a:ext cx="83383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(500)      200      100      (200)     400       300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grpSp>
          <p:nvGrpSpPr>
            <p:cNvPr id="585" name="Group 13"/>
            <p:cNvGrpSpPr/>
            <p:nvPr/>
          </p:nvGrpSpPr>
          <p:grpSpPr>
            <a:xfrm>
              <a:off x="1219320" y="4038480"/>
              <a:ext cx="5638680" cy="990720"/>
              <a:chOff x="1219320" y="4038480"/>
              <a:chExt cx="5638680" cy="990720"/>
            </a:xfrm>
          </p:grpSpPr>
          <p:grpSp>
            <p:nvGrpSpPr>
              <p:cNvPr id="586" name="Group 14"/>
              <p:cNvGrpSpPr/>
              <p:nvPr/>
            </p:nvGrpSpPr>
            <p:grpSpPr>
              <a:xfrm>
                <a:off x="1219320" y="4038480"/>
                <a:ext cx="5638680" cy="990720"/>
                <a:chOff x="1219320" y="4038480"/>
                <a:chExt cx="5638680" cy="990720"/>
              </a:xfrm>
            </p:grpSpPr>
            <p:sp>
              <p:nvSpPr>
                <p:cNvPr id="587" name="Oval 15"/>
                <p:cNvSpPr/>
                <p:nvPr/>
              </p:nvSpPr>
              <p:spPr>
                <a:xfrm>
                  <a:off x="4495680" y="4038480"/>
                  <a:ext cx="520920" cy="5968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88" name="Oval 16"/>
                <p:cNvSpPr/>
                <p:nvPr/>
              </p:nvSpPr>
              <p:spPr>
                <a:xfrm>
                  <a:off x="5943600" y="4038480"/>
                  <a:ext cx="520560" cy="5968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89" name="Oval 17"/>
                <p:cNvSpPr/>
                <p:nvPr/>
              </p:nvSpPr>
              <p:spPr>
                <a:xfrm>
                  <a:off x="1587600" y="4038480"/>
                  <a:ext cx="520560" cy="5968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90" name="AutoShape 18"/>
                <p:cNvSpPr/>
                <p:nvPr/>
              </p:nvSpPr>
              <p:spPr>
                <a:xfrm rot="5400000">
                  <a:off x="1676520" y="4191120"/>
                  <a:ext cx="380880" cy="1295280"/>
                </a:xfrm>
                <a:custGeom>
                  <a:avLst/>
                  <a:gdLst>
                    <a:gd name="textAreaLeft" fmla="*/ 243360 w 380880"/>
                    <a:gd name="textAreaRight" fmla="*/ 381240 w 380880"/>
                    <a:gd name="textAreaTop" fmla="*/ 33480 h 1295280"/>
                    <a:gd name="textAreaBottom" fmla="*/ 1261800 h 1295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26"/>
                      </a:lnTo>
                      <a:cubicBezTo>
                        <a:pt x="10800" y="9926"/>
                        <a:pt x="5400" y="10826"/>
                        <a:pt x="0" y="10826"/>
                      </a:cubicBezTo>
                      <a:cubicBezTo>
                        <a:pt x="5400" y="10826"/>
                        <a:pt x="10800" y="11726"/>
                        <a:pt x="10800" y="12626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7632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91" name="AutoShape 19"/>
                <p:cNvSpPr/>
                <p:nvPr/>
              </p:nvSpPr>
              <p:spPr>
                <a:xfrm rot="5400000">
                  <a:off x="6019920" y="4191120"/>
                  <a:ext cx="380880" cy="1295280"/>
                </a:xfrm>
                <a:custGeom>
                  <a:avLst/>
                  <a:gdLst>
                    <a:gd name="textAreaLeft" fmla="*/ 243360 w 380880"/>
                    <a:gd name="textAreaRight" fmla="*/ 381240 w 380880"/>
                    <a:gd name="textAreaTop" fmla="*/ 33480 h 1295280"/>
                    <a:gd name="textAreaBottom" fmla="*/ 1261800 h 1295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26"/>
                      </a:lnTo>
                      <a:cubicBezTo>
                        <a:pt x="10800" y="9926"/>
                        <a:pt x="5400" y="10826"/>
                        <a:pt x="0" y="10826"/>
                      </a:cubicBezTo>
                      <a:cubicBezTo>
                        <a:pt x="5400" y="10826"/>
                        <a:pt x="10800" y="11726"/>
                        <a:pt x="10800" y="12626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7632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92" name="AutoShape 20"/>
                <p:cNvSpPr/>
                <p:nvPr/>
              </p:nvSpPr>
              <p:spPr>
                <a:xfrm rot="5400000">
                  <a:off x="4572000" y="4191120"/>
                  <a:ext cx="380880" cy="1295280"/>
                </a:xfrm>
                <a:custGeom>
                  <a:avLst/>
                  <a:gdLst>
                    <a:gd name="textAreaLeft" fmla="*/ 243360 w 380880"/>
                    <a:gd name="textAreaRight" fmla="*/ 381240 w 380880"/>
                    <a:gd name="textAreaTop" fmla="*/ 33480 h 1295280"/>
                    <a:gd name="textAreaBottom" fmla="*/ 1261800 h 1295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26"/>
                      </a:lnTo>
                      <a:cubicBezTo>
                        <a:pt x="10800" y="9926"/>
                        <a:pt x="5400" y="10826"/>
                        <a:pt x="0" y="10826"/>
                      </a:cubicBezTo>
                      <a:cubicBezTo>
                        <a:pt x="5400" y="10826"/>
                        <a:pt x="10800" y="11726"/>
                        <a:pt x="10800" y="12626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7632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sp>
            <p:nvSpPr>
              <p:cNvPr id="593" name="Rectangle 21"/>
              <p:cNvSpPr/>
              <p:nvPr/>
            </p:nvSpPr>
            <p:spPr>
              <a:xfrm>
                <a:off x="1644120" y="4038480"/>
                <a:ext cx="47570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1                       2           3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</p:grpSp>
    </p:spTree>
  </p:cSld>
  <p:transition>
    <p:checker dir="horz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666520" y="304920"/>
            <a:ext cx="5537160" cy="86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Summary Problem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Enter the cash flows only onc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Find the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RR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Using a discount rate of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5%,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find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PV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Add back IO and divide by IO to get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I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96" name="Group 20"/>
          <p:cNvGrpSpPr/>
          <p:nvPr/>
        </p:nvGrpSpPr>
        <p:grpSpPr>
          <a:xfrm>
            <a:off x="456840" y="4724280"/>
            <a:ext cx="8376480" cy="1636560"/>
            <a:chOff x="456840" y="4724280"/>
            <a:chExt cx="8376480" cy="1636560"/>
          </a:xfrm>
        </p:grpSpPr>
        <p:sp>
          <p:nvSpPr>
            <p:cNvPr id="597" name="Line 21"/>
            <p:cNvSpPr/>
            <p:nvPr/>
          </p:nvSpPr>
          <p:spPr>
            <a:xfrm>
              <a:off x="1016280" y="5560920"/>
              <a:ext cx="742284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598" name="Line 22"/>
            <p:cNvSpPr/>
            <p:nvPr/>
          </p:nvSpPr>
          <p:spPr>
            <a:xfrm>
              <a:off x="8477280" y="5344920"/>
              <a:ext cx="0" cy="3999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599" name="Line 23"/>
            <p:cNvSpPr/>
            <p:nvPr/>
          </p:nvSpPr>
          <p:spPr>
            <a:xfrm>
              <a:off x="2533680" y="5332320"/>
              <a:ext cx="0" cy="4190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600" name="Line 24"/>
            <p:cNvSpPr/>
            <p:nvPr/>
          </p:nvSpPr>
          <p:spPr>
            <a:xfrm>
              <a:off x="1016280" y="5332320"/>
              <a:ext cx="0" cy="4190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601" name="Line 25"/>
            <p:cNvSpPr/>
            <p:nvPr/>
          </p:nvSpPr>
          <p:spPr>
            <a:xfrm>
              <a:off x="4006800" y="5351400"/>
              <a:ext cx="0" cy="4190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602" name="Line 26"/>
            <p:cNvSpPr/>
            <p:nvPr/>
          </p:nvSpPr>
          <p:spPr>
            <a:xfrm>
              <a:off x="5505480" y="5351400"/>
              <a:ext cx="0" cy="4190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603" name="Line 27"/>
            <p:cNvSpPr/>
            <p:nvPr/>
          </p:nvSpPr>
          <p:spPr>
            <a:xfrm>
              <a:off x="6953400" y="5332320"/>
              <a:ext cx="0" cy="4381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604" name="Rectangle 28"/>
            <p:cNvSpPr/>
            <p:nvPr/>
          </p:nvSpPr>
          <p:spPr>
            <a:xfrm>
              <a:off x="809280" y="5719680"/>
              <a:ext cx="7843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0           1           2           3           4           5</a:t>
              </a:r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605" name="Rectangle 29"/>
            <p:cNvSpPr/>
            <p:nvPr/>
          </p:nvSpPr>
          <p:spPr>
            <a:xfrm>
              <a:off x="456840" y="4724280"/>
              <a:ext cx="83764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(900)     300       400       400       500       600</a:t>
              </a:r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</p:spTree>
  </p:cSld>
  <p:transition>
    <p:random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5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2" dur="5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666520" y="304920"/>
            <a:ext cx="5537160" cy="86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Summary Problem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0866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RR = 34.37%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Using a discount rate of 15%,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PV = $510.52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I = 1.57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08" name="Group 20"/>
          <p:cNvGrpSpPr/>
          <p:nvPr/>
        </p:nvGrpSpPr>
        <p:grpSpPr>
          <a:xfrm>
            <a:off x="456840" y="4724280"/>
            <a:ext cx="8376480" cy="1636560"/>
            <a:chOff x="456840" y="4724280"/>
            <a:chExt cx="8376480" cy="1636560"/>
          </a:xfrm>
        </p:grpSpPr>
        <p:sp>
          <p:nvSpPr>
            <p:cNvPr id="609" name="Line 21"/>
            <p:cNvSpPr/>
            <p:nvPr/>
          </p:nvSpPr>
          <p:spPr>
            <a:xfrm>
              <a:off x="1016280" y="5560920"/>
              <a:ext cx="742284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610" name="Line 22"/>
            <p:cNvSpPr/>
            <p:nvPr/>
          </p:nvSpPr>
          <p:spPr>
            <a:xfrm>
              <a:off x="8477280" y="5344920"/>
              <a:ext cx="0" cy="3999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611" name="Line 23"/>
            <p:cNvSpPr/>
            <p:nvPr/>
          </p:nvSpPr>
          <p:spPr>
            <a:xfrm>
              <a:off x="2533680" y="5332320"/>
              <a:ext cx="0" cy="4190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612" name="Line 24"/>
            <p:cNvSpPr/>
            <p:nvPr/>
          </p:nvSpPr>
          <p:spPr>
            <a:xfrm>
              <a:off x="1016280" y="5332320"/>
              <a:ext cx="0" cy="4190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613" name="Line 25"/>
            <p:cNvSpPr/>
            <p:nvPr/>
          </p:nvSpPr>
          <p:spPr>
            <a:xfrm>
              <a:off x="4006800" y="5351400"/>
              <a:ext cx="0" cy="4190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614" name="Line 26"/>
            <p:cNvSpPr/>
            <p:nvPr/>
          </p:nvSpPr>
          <p:spPr>
            <a:xfrm>
              <a:off x="5505480" y="5351400"/>
              <a:ext cx="0" cy="4190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615" name="Line 27"/>
            <p:cNvSpPr/>
            <p:nvPr/>
          </p:nvSpPr>
          <p:spPr>
            <a:xfrm>
              <a:off x="6953400" y="5332320"/>
              <a:ext cx="0" cy="4381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616" name="Rectangle 28"/>
            <p:cNvSpPr/>
            <p:nvPr/>
          </p:nvSpPr>
          <p:spPr>
            <a:xfrm>
              <a:off x="809280" y="5719680"/>
              <a:ext cx="7843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0           1           2           3           4           5</a:t>
              </a:r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617" name="Rectangle 29"/>
            <p:cNvSpPr/>
            <p:nvPr/>
          </p:nvSpPr>
          <p:spPr>
            <a:xfrm>
              <a:off x="456840" y="4724280"/>
              <a:ext cx="83764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(900)     300       400       400       500       600</a:t>
              </a:r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</p:spTree>
  </p:cSld>
  <p:transition>
    <p:random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Modified Internal Rate of Return</a:t>
            </a:r>
            <a:br>
              <a:rPr sz="3600"/>
            </a:b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(MIRR)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RR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assumes that all cash flows are reinvested at the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RR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IRR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provides a rate of return measure that assumes cash flows are reinvested at the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quired rate of return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MIRR Steps: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5438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alculate the PV of the cash outflow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Using the required rate of retur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alculate the FV of the cash inflows at the last year of the project’s time line.  This is called the terminal value (TV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ing the required rate of retur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IRR:  the discount rate that equates the PV of the cash outflows with the PV of the terminal value, ie, that make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V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outflow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= PV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inflow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6782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MIR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ing our time line and a 15% rat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V outflows =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(90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V inflows (at the end of year 5) =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,837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MIRR:  FV = 2837, PV = (900), N = 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olve:  I =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5.81%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24" name="Group 4"/>
          <p:cNvGrpSpPr/>
          <p:nvPr/>
        </p:nvGrpSpPr>
        <p:grpSpPr>
          <a:xfrm>
            <a:off x="533160" y="5221440"/>
            <a:ext cx="8376480" cy="1636560"/>
            <a:chOff x="533160" y="5221440"/>
            <a:chExt cx="8376480" cy="1636560"/>
          </a:xfrm>
        </p:grpSpPr>
        <p:sp>
          <p:nvSpPr>
            <p:cNvPr id="625" name="Line 5"/>
            <p:cNvSpPr/>
            <p:nvPr/>
          </p:nvSpPr>
          <p:spPr>
            <a:xfrm>
              <a:off x="1092240" y="6058080"/>
              <a:ext cx="742248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626" name="Line 6"/>
            <p:cNvSpPr/>
            <p:nvPr/>
          </p:nvSpPr>
          <p:spPr>
            <a:xfrm>
              <a:off x="8553240" y="5842080"/>
              <a:ext cx="0" cy="3999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627" name="Line 7"/>
            <p:cNvSpPr/>
            <p:nvPr/>
          </p:nvSpPr>
          <p:spPr>
            <a:xfrm>
              <a:off x="2609640" y="5829480"/>
              <a:ext cx="0" cy="4190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628" name="Line 8"/>
            <p:cNvSpPr/>
            <p:nvPr/>
          </p:nvSpPr>
          <p:spPr>
            <a:xfrm>
              <a:off x="1092240" y="5829480"/>
              <a:ext cx="0" cy="4190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629" name="Line 9"/>
            <p:cNvSpPr/>
            <p:nvPr/>
          </p:nvSpPr>
          <p:spPr>
            <a:xfrm>
              <a:off x="4082760" y="5848560"/>
              <a:ext cx="0" cy="4190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630" name="Line 10"/>
            <p:cNvSpPr/>
            <p:nvPr/>
          </p:nvSpPr>
          <p:spPr>
            <a:xfrm>
              <a:off x="5581440" y="5848560"/>
              <a:ext cx="0" cy="4190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631" name="Line 11"/>
            <p:cNvSpPr/>
            <p:nvPr/>
          </p:nvSpPr>
          <p:spPr>
            <a:xfrm>
              <a:off x="7029360" y="5829480"/>
              <a:ext cx="0" cy="4381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632" name="Rectangle 12"/>
            <p:cNvSpPr/>
            <p:nvPr/>
          </p:nvSpPr>
          <p:spPr>
            <a:xfrm>
              <a:off x="884880" y="6216840"/>
              <a:ext cx="7843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0           1           2           3           4           5</a:t>
              </a:r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633" name="Rectangle 13"/>
            <p:cNvSpPr/>
            <p:nvPr/>
          </p:nvSpPr>
          <p:spPr>
            <a:xfrm>
              <a:off x="533160" y="5221440"/>
              <a:ext cx="83764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(900)     300       400       400       500       600</a:t>
              </a:r>
              <a:endParaRPr b="1" lang="en-US" sz="36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</p:spTree>
  </p:cSld>
  <p:transition>
    <p:dissolve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MIR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ing our time line and a 15% rat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V outflows =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(90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V inflows (at the end of year 5) =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,837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MIRR:  FV = 2837, PV = (900), N = 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olve:  I =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5.81%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onclusion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: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project’s IRR of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4.37%,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assumes that cash flows are reinvested at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4.37%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MIRR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ing our time line and a 15% rat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V outflows =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(90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V inflows (at the end of year 5) =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,837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MIRR:  FV = 2837, PV = (900), N = 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olve:  I =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5.81%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Conclusion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: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project’s IRR of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4.37%,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assumes that cash flows are reinvested at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4.37%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suming a reinvestment rate of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5%,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the project’s MIRR is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5.81%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00400" y="304920"/>
            <a:ext cx="4578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Payback Period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77000" cy="169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How long will it take for the project to generate enough cash to pay for itself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3" name="Group 4"/>
          <p:cNvGrpSpPr/>
          <p:nvPr/>
        </p:nvGrpSpPr>
        <p:grpSpPr>
          <a:xfrm>
            <a:off x="336960" y="3581280"/>
            <a:ext cx="8829000" cy="1693800"/>
            <a:chOff x="336960" y="3581280"/>
            <a:chExt cx="8829000" cy="1693800"/>
          </a:xfrm>
        </p:grpSpPr>
        <p:grpSp>
          <p:nvGrpSpPr>
            <p:cNvPr id="114" name="Group 5"/>
            <p:cNvGrpSpPr/>
            <p:nvPr/>
          </p:nvGrpSpPr>
          <p:grpSpPr>
            <a:xfrm>
              <a:off x="685440" y="4189320"/>
              <a:ext cx="8224200" cy="1085760"/>
              <a:chOff x="685440" y="4189320"/>
              <a:chExt cx="8224200" cy="1085760"/>
            </a:xfrm>
          </p:grpSpPr>
          <p:grpSp>
            <p:nvGrpSpPr>
              <p:cNvPr id="115" name="Group 6"/>
              <p:cNvGrpSpPr/>
              <p:nvPr/>
            </p:nvGrpSpPr>
            <p:grpSpPr>
              <a:xfrm>
                <a:off x="873000" y="4189320"/>
                <a:ext cx="7810560" cy="495000"/>
                <a:chOff x="873000" y="4189320"/>
                <a:chExt cx="7810560" cy="495000"/>
              </a:xfrm>
            </p:grpSpPr>
            <p:sp>
              <p:nvSpPr>
                <p:cNvPr id="116" name="Line 7"/>
                <p:cNvSpPr/>
                <p:nvPr/>
              </p:nvSpPr>
              <p:spPr>
                <a:xfrm>
                  <a:off x="873000" y="4437000"/>
                  <a:ext cx="7791480" cy="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7" name="Line 8"/>
                <p:cNvSpPr/>
                <p:nvPr/>
              </p:nvSpPr>
              <p:spPr>
                <a:xfrm>
                  <a:off x="8683560" y="4221000"/>
                  <a:ext cx="0" cy="39996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8" name="Line 9"/>
                <p:cNvSpPr/>
                <p:nvPr/>
              </p:nvSpPr>
              <p:spPr>
                <a:xfrm>
                  <a:off x="2054160" y="4208400"/>
                  <a:ext cx="0" cy="41904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9" name="Line 10"/>
                <p:cNvSpPr/>
                <p:nvPr/>
              </p:nvSpPr>
              <p:spPr>
                <a:xfrm>
                  <a:off x="873000" y="4246200"/>
                  <a:ext cx="0" cy="41940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20" name="Line 11"/>
                <p:cNvSpPr/>
                <p:nvPr/>
              </p:nvSpPr>
              <p:spPr>
                <a:xfrm>
                  <a:off x="2968560" y="4208400"/>
                  <a:ext cx="0" cy="41904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21" name="Line 12"/>
                <p:cNvSpPr/>
                <p:nvPr/>
              </p:nvSpPr>
              <p:spPr>
                <a:xfrm>
                  <a:off x="3882960" y="4189320"/>
                  <a:ext cx="0" cy="41904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22" name="Line 13"/>
                <p:cNvSpPr/>
                <p:nvPr/>
              </p:nvSpPr>
              <p:spPr>
                <a:xfrm>
                  <a:off x="4797360" y="4208400"/>
                  <a:ext cx="0" cy="41904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23" name="Line 14"/>
                <p:cNvSpPr/>
                <p:nvPr/>
              </p:nvSpPr>
              <p:spPr>
                <a:xfrm>
                  <a:off x="6626160" y="4208400"/>
                  <a:ext cx="0" cy="47592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24" name="Line 15"/>
                <p:cNvSpPr/>
                <p:nvPr/>
              </p:nvSpPr>
              <p:spPr>
                <a:xfrm>
                  <a:off x="7540560" y="4208400"/>
                  <a:ext cx="0" cy="41904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25" name="Line 16"/>
                <p:cNvSpPr/>
                <p:nvPr/>
              </p:nvSpPr>
              <p:spPr>
                <a:xfrm>
                  <a:off x="5711760" y="4208400"/>
                  <a:ext cx="0" cy="41904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sp>
            <p:nvSpPr>
              <p:cNvPr id="126" name="Rectangle 17"/>
              <p:cNvSpPr/>
              <p:nvPr/>
            </p:nvSpPr>
            <p:spPr>
              <a:xfrm>
                <a:off x="685440" y="4633920"/>
                <a:ext cx="4136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0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7" name="Rectangle 18"/>
              <p:cNvSpPr/>
              <p:nvPr/>
            </p:nvSpPr>
            <p:spPr>
              <a:xfrm>
                <a:off x="1847520" y="4633920"/>
                <a:ext cx="4136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1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8" name="Rectangle 19"/>
              <p:cNvSpPr/>
              <p:nvPr/>
            </p:nvSpPr>
            <p:spPr>
              <a:xfrm>
                <a:off x="2781000" y="4633920"/>
                <a:ext cx="4136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2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9" name="Rectangle 20"/>
              <p:cNvSpPr/>
              <p:nvPr/>
            </p:nvSpPr>
            <p:spPr>
              <a:xfrm>
                <a:off x="3676320" y="4633920"/>
                <a:ext cx="4136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3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30" name="Rectangle 21"/>
              <p:cNvSpPr/>
              <p:nvPr/>
            </p:nvSpPr>
            <p:spPr>
              <a:xfrm>
                <a:off x="4609800" y="4633920"/>
                <a:ext cx="4136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4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31" name="Rectangle 22"/>
              <p:cNvSpPr/>
              <p:nvPr/>
            </p:nvSpPr>
            <p:spPr>
              <a:xfrm>
                <a:off x="5524200" y="4633920"/>
                <a:ext cx="4136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5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32" name="Rectangle 23"/>
              <p:cNvSpPr/>
              <p:nvPr/>
            </p:nvSpPr>
            <p:spPr>
              <a:xfrm>
                <a:off x="8496000" y="4614840"/>
                <a:ext cx="4136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8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33" name="Rectangle 24"/>
              <p:cNvSpPr/>
              <p:nvPr/>
            </p:nvSpPr>
            <p:spPr>
              <a:xfrm>
                <a:off x="6400440" y="4633920"/>
                <a:ext cx="4136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6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34" name="Rectangle 25"/>
              <p:cNvSpPr/>
              <p:nvPr/>
            </p:nvSpPr>
            <p:spPr>
              <a:xfrm>
                <a:off x="7333920" y="4618080"/>
                <a:ext cx="4136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7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sp>
          <p:nvSpPr>
            <p:cNvPr id="135" name="Rectangle 26"/>
            <p:cNvSpPr/>
            <p:nvPr/>
          </p:nvSpPr>
          <p:spPr>
            <a:xfrm>
              <a:off x="336960" y="3581280"/>
              <a:ext cx="8829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(500)    150   150   150   150   150   150   150     150 </a:t>
              </a:r>
              <a:endParaRPr b="1" lang="en-US" sz="32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00400" y="304920"/>
            <a:ext cx="4578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Payback Period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77000" cy="169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How long will it take for the project to generate enough cash to pay for itself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336960" y="3581280"/>
            <a:ext cx="8829000" cy="1693800"/>
            <a:chOff x="336960" y="3581280"/>
            <a:chExt cx="8829000" cy="1693800"/>
          </a:xfrm>
        </p:grpSpPr>
        <p:grpSp>
          <p:nvGrpSpPr>
            <p:cNvPr id="139" name="Group 5"/>
            <p:cNvGrpSpPr/>
            <p:nvPr/>
          </p:nvGrpSpPr>
          <p:grpSpPr>
            <a:xfrm>
              <a:off x="685440" y="4189320"/>
              <a:ext cx="8224200" cy="1085760"/>
              <a:chOff x="685440" y="4189320"/>
              <a:chExt cx="8224200" cy="1085760"/>
            </a:xfrm>
          </p:grpSpPr>
          <p:grpSp>
            <p:nvGrpSpPr>
              <p:cNvPr id="140" name="Group 6"/>
              <p:cNvGrpSpPr/>
              <p:nvPr/>
            </p:nvGrpSpPr>
            <p:grpSpPr>
              <a:xfrm>
                <a:off x="873000" y="4189320"/>
                <a:ext cx="7810560" cy="495000"/>
                <a:chOff x="873000" y="4189320"/>
                <a:chExt cx="7810560" cy="495000"/>
              </a:xfrm>
            </p:grpSpPr>
            <p:sp>
              <p:nvSpPr>
                <p:cNvPr id="141" name="Line 7"/>
                <p:cNvSpPr/>
                <p:nvPr/>
              </p:nvSpPr>
              <p:spPr>
                <a:xfrm>
                  <a:off x="873000" y="4437000"/>
                  <a:ext cx="7791480" cy="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42" name="Line 8"/>
                <p:cNvSpPr/>
                <p:nvPr/>
              </p:nvSpPr>
              <p:spPr>
                <a:xfrm>
                  <a:off x="8683560" y="4221000"/>
                  <a:ext cx="0" cy="39996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43" name="Line 9"/>
                <p:cNvSpPr/>
                <p:nvPr/>
              </p:nvSpPr>
              <p:spPr>
                <a:xfrm>
                  <a:off x="2054160" y="4208400"/>
                  <a:ext cx="0" cy="41904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44" name="Line 10"/>
                <p:cNvSpPr/>
                <p:nvPr/>
              </p:nvSpPr>
              <p:spPr>
                <a:xfrm>
                  <a:off x="873000" y="4246200"/>
                  <a:ext cx="0" cy="41940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45" name="Line 11"/>
                <p:cNvSpPr/>
                <p:nvPr/>
              </p:nvSpPr>
              <p:spPr>
                <a:xfrm>
                  <a:off x="2968560" y="4208400"/>
                  <a:ext cx="0" cy="41904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46" name="Line 12"/>
                <p:cNvSpPr/>
                <p:nvPr/>
              </p:nvSpPr>
              <p:spPr>
                <a:xfrm>
                  <a:off x="3882960" y="4189320"/>
                  <a:ext cx="0" cy="41904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47" name="Line 13"/>
                <p:cNvSpPr/>
                <p:nvPr/>
              </p:nvSpPr>
              <p:spPr>
                <a:xfrm>
                  <a:off x="4797360" y="4208400"/>
                  <a:ext cx="0" cy="41904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48" name="Line 14"/>
                <p:cNvSpPr/>
                <p:nvPr/>
              </p:nvSpPr>
              <p:spPr>
                <a:xfrm>
                  <a:off x="6626160" y="4208400"/>
                  <a:ext cx="0" cy="47592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49" name="Line 15"/>
                <p:cNvSpPr/>
                <p:nvPr/>
              </p:nvSpPr>
              <p:spPr>
                <a:xfrm>
                  <a:off x="7540560" y="4208400"/>
                  <a:ext cx="0" cy="41904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50" name="Line 16"/>
                <p:cNvSpPr/>
                <p:nvPr/>
              </p:nvSpPr>
              <p:spPr>
                <a:xfrm>
                  <a:off x="5711760" y="4208400"/>
                  <a:ext cx="0" cy="41904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sp>
            <p:nvSpPr>
              <p:cNvPr id="151" name="Rectangle 17"/>
              <p:cNvSpPr/>
              <p:nvPr/>
            </p:nvSpPr>
            <p:spPr>
              <a:xfrm>
                <a:off x="685440" y="4633920"/>
                <a:ext cx="4136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0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52" name="Rectangle 18"/>
              <p:cNvSpPr/>
              <p:nvPr/>
            </p:nvSpPr>
            <p:spPr>
              <a:xfrm>
                <a:off x="1847520" y="4633920"/>
                <a:ext cx="4136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1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53" name="Rectangle 19"/>
              <p:cNvSpPr/>
              <p:nvPr/>
            </p:nvSpPr>
            <p:spPr>
              <a:xfrm>
                <a:off x="2781000" y="4633920"/>
                <a:ext cx="4136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2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54" name="Rectangle 20"/>
              <p:cNvSpPr/>
              <p:nvPr/>
            </p:nvSpPr>
            <p:spPr>
              <a:xfrm>
                <a:off x="3676320" y="4633920"/>
                <a:ext cx="4136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3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55" name="Rectangle 21"/>
              <p:cNvSpPr/>
              <p:nvPr/>
            </p:nvSpPr>
            <p:spPr>
              <a:xfrm>
                <a:off x="4609800" y="4633920"/>
                <a:ext cx="4136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4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56" name="Rectangle 22"/>
              <p:cNvSpPr/>
              <p:nvPr/>
            </p:nvSpPr>
            <p:spPr>
              <a:xfrm>
                <a:off x="5524200" y="4633920"/>
                <a:ext cx="4136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5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57" name="Rectangle 23"/>
              <p:cNvSpPr/>
              <p:nvPr/>
            </p:nvSpPr>
            <p:spPr>
              <a:xfrm>
                <a:off x="8496000" y="4614840"/>
                <a:ext cx="4136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8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58" name="Rectangle 24"/>
              <p:cNvSpPr/>
              <p:nvPr/>
            </p:nvSpPr>
            <p:spPr>
              <a:xfrm>
                <a:off x="6400440" y="4633920"/>
                <a:ext cx="4136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6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59" name="Rectangle 25"/>
              <p:cNvSpPr/>
              <p:nvPr/>
            </p:nvSpPr>
            <p:spPr>
              <a:xfrm>
                <a:off x="7333920" y="4618080"/>
                <a:ext cx="4136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7</a:t>
                </a:r>
                <a:endParaRPr b="1" lang="en-US" sz="36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sp>
          <p:nvSpPr>
            <p:cNvPr id="160" name="Rectangle 26"/>
            <p:cNvSpPr/>
            <p:nvPr/>
          </p:nvSpPr>
          <p:spPr>
            <a:xfrm>
              <a:off x="336960" y="3581280"/>
              <a:ext cx="8829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(500)    150   150   150   150   150   150   150     150 </a:t>
              </a:r>
              <a:endParaRPr b="1" lang="en-US" sz="32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61" name="Rectangle 27"/>
          <p:cNvSpPr/>
          <p:nvPr/>
        </p:nvSpPr>
        <p:spPr>
          <a:xfrm>
            <a:off x="1377720" y="5715000"/>
            <a:ext cx="5918400" cy="6411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ayback period =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33  years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1523520"/>
            <a:ext cx="75628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Is a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.33 year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payback period good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Is it acceptabl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Firms that use this method will compare the payback calculation to some standard set by the fir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If our senior management had set a cut-off of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5 years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for projects like ours, what would be our decision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ccept the project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3200400" y="304920"/>
            <a:ext cx="4578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Payback Period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0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5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5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9320" y="380880"/>
            <a:ext cx="720720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rawbacks of Payback Period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429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Firm cutoffs are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bjective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Does not consid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ime value of money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Does not consider any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quired rate of return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Does not consider all of the project’s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sh flows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2-28T13:38:40Z</dcterms:created>
  <dc:creator>Anthony K. Byrd, Associate Professor of Finance</dc:creator>
  <dc:description/>
  <cp:keywords/>
  <dc:language>en-US</dc:language>
  <cp:lastModifiedBy>keran sohail</cp:lastModifiedBy>
  <cp:lastPrinted>1995-02-28T13:31:44Z</cp:lastPrinted>
  <dcterms:modified xsi:type="dcterms:W3CDTF">2020-04-02T06:32:15Z</dcterms:modified>
  <cp:revision>28</cp:revision>
  <dc:subject>Ch. 9:  Capital Budgeting Decision Criteria</dc:subject>
  <dc:title>Financial Management</dc:title>
</cp:coreProperties>
</file>